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3DD-2E0B-4873-9050-DF0E4D31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390-7754-43F9-A8F2-AEB9F5C2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BBB-012C-4DEA-A973-79C5A13B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9ED-B634-4F05-988E-AB349AC9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3C5-BD7F-4582-8A0F-A44368E1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26B-74F6-43DE-A712-5E071C62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FBD-3C99-4805-A7CD-F0256351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D4F-AEB6-4A3B-9DC7-51AA82E6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F7E-C233-4FA3-9859-D025F134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19B-4843-40D9-B5FC-36203130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56A-6C31-4C81-BD5C-1E74443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EEC-93AA-4489-968D-4448A48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FE3D-472B-40CC-A645-B99FD039BE9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7640" y="1125360"/>
            <a:ext cx="61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 holidays in Poland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ub Kowalski,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swieto-wojska-20-rz_26174913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konie"/>
          <p:cNvPicPr/>
          <p:nvPr/>
        </p:nvPicPr>
        <p:blipFill>
          <a:blip r:embed="rId1"/>
          <a:stretch/>
        </p:blipFill>
        <p:spPr>
          <a:xfrm>
            <a:off x="324000" y="333360"/>
            <a:ext cx="4824360" cy="4160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9" name="Picture 7" descr="husar"/>
          <p:cNvPicPr/>
          <p:nvPr/>
        </p:nvPicPr>
        <p:blipFill>
          <a:blip r:embed="rId2"/>
          <a:stretch/>
        </p:blipFill>
        <p:spPr>
          <a:xfrm>
            <a:off x="3780000" y="3213000"/>
            <a:ext cx="5151240" cy="340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uroczysta_zmiana_wart_przy_grobie_nieznanego_onierza_2_20131111_1989502402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woj-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9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woj-2"/>
          <p:cNvPicPr/>
          <p:nvPr/>
        </p:nvPicPr>
        <p:blipFill>
          <a:blip r:embed="rId1"/>
          <a:stretch/>
        </p:blipFill>
        <p:spPr>
          <a:xfrm>
            <a:off x="0" y="449280"/>
            <a:ext cx="9144000" cy="5959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tanks3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51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wojsko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851280" y="4941720"/>
            <a:ext cx="46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71280" y="4581000"/>
            <a:ext cx="755316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rmed Forces Day, August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71640" y="4581360"/>
            <a:ext cx="7553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rmed Forces Day, August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flaga1"/>
          <p:cNvPicPr/>
          <p:nvPr/>
        </p:nvPicPr>
        <p:blipFill>
          <a:blip r:embed="rId1"/>
          <a:stretch/>
        </p:blipFill>
        <p:spPr>
          <a:xfrm>
            <a:off x="1763640" y="836640"/>
            <a:ext cx="5832720" cy="349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971640" y="4581360"/>
            <a:ext cx="7553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rmed Forces Day, August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flaga1"/>
          <p:cNvPicPr/>
          <p:nvPr/>
        </p:nvPicPr>
        <p:blipFill>
          <a:blip r:embed="rId2"/>
          <a:stretch/>
        </p:blipFill>
        <p:spPr>
          <a:xfrm>
            <a:off x="1763640" y="836640"/>
            <a:ext cx="5832720" cy="3492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1"/>
          <p:cNvSpPr/>
          <p:nvPr/>
        </p:nvSpPr>
        <p:spPr>
          <a:xfrm>
            <a:off x="611280" y="4046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ed Forces Da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national holiday celebrated annually on 15 August in Poland, commemorating the anniversary of the 1920 victory over Soviet Russia at the Battle of Warsaw during the Polish–Soviet W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bitwa-rosja"/>
          <p:cNvPicPr/>
          <p:nvPr/>
        </p:nvPicPr>
        <p:blipFill>
          <a:blip r:embed="rId1"/>
          <a:stretch/>
        </p:blipFill>
        <p:spPr>
          <a:xfrm>
            <a:off x="539640" y="2276640"/>
            <a:ext cx="8064720" cy="398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itwa-tank"/>
          <p:cNvPicPr/>
          <p:nvPr/>
        </p:nvPicPr>
        <p:blipFill>
          <a:blip r:embed="rId1"/>
          <a:stretch/>
        </p:blipFill>
        <p:spPr>
          <a:xfrm>
            <a:off x="611280" y="2924280"/>
            <a:ext cx="5680080" cy="3551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1" name="Picture 6" descr="bitwa_strzelcy"/>
          <p:cNvPicPr/>
          <p:nvPr/>
        </p:nvPicPr>
        <p:blipFill>
          <a:blip r:embed="rId2"/>
          <a:stretch/>
        </p:blipFill>
        <p:spPr>
          <a:xfrm>
            <a:off x="4211640" y="1628640"/>
            <a:ext cx="4525920" cy="286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Text Box 7"/>
          <p:cNvSpPr/>
          <p:nvPr/>
        </p:nvSpPr>
        <p:spPr>
          <a:xfrm>
            <a:off x="684360" y="33336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event known as the "Miracle of the Vistula," the Polish Army under the command of Marshal Józef Piłsudski successfully repulsed a Red Army offensive outside of Warsaw in mid-August 1920. The defeat of the Russian army ensured the capital's protection and the survival of the young Second Polish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1332000" y="105264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bitwa warszawska 1920 4_4944225"/>
          <p:cNvPicPr/>
          <p:nvPr/>
        </p:nvPicPr>
        <p:blipFill>
          <a:blip r:embed="rId1"/>
          <a:stretch/>
        </p:blipFill>
        <p:spPr>
          <a:xfrm>
            <a:off x="4067280" y="3500280"/>
            <a:ext cx="4825800" cy="303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" name="Text Box 10"/>
          <p:cNvSpPr/>
          <p:nvPr/>
        </p:nvSpPr>
        <p:spPr>
          <a:xfrm>
            <a:off x="395280" y="333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memorate the republic's victory over the Red Army, Minister of Military Affair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isław Szeptyck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d the Feast of the Soldier, or Soldiers Day, in 192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t is marked by military parades, equipment reviews, showcases and remembrances by all branches of the Polish Armed Forces across the coun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bitwa_2"/>
          <p:cNvPicPr/>
          <p:nvPr/>
        </p:nvPicPr>
        <p:blipFill>
          <a:blip r:embed="rId2"/>
          <a:stretch/>
        </p:blipFill>
        <p:spPr>
          <a:xfrm>
            <a:off x="468360" y="1916280"/>
            <a:ext cx="4610160" cy="286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ed Forces Day is celebrated throughout Poland, with military parades, commemorations for active personnel, veterans, and the de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3276152_krakow-14-sierpien-2011-plac-matejkiswieto-wojska-polskiego_1"/>
          <p:cNvPicPr/>
          <p:nvPr/>
        </p:nvPicPr>
        <p:blipFill>
          <a:blip r:embed="rId1"/>
          <a:stretch/>
        </p:blipFill>
        <p:spPr>
          <a:xfrm>
            <a:off x="539640" y="1413000"/>
            <a:ext cx="3600720" cy="262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efilada12"/>
          <p:cNvPicPr/>
          <p:nvPr/>
        </p:nvPicPr>
        <p:blipFill>
          <a:blip r:embed="rId2"/>
          <a:stretch/>
        </p:blipFill>
        <p:spPr>
          <a:xfrm>
            <a:off x="4284720" y="1413000"/>
            <a:ext cx="40323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orkiestra"/>
          <p:cNvPicPr/>
          <p:nvPr/>
        </p:nvPicPr>
        <p:blipFill>
          <a:blip r:embed="rId3"/>
          <a:stretch/>
        </p:blipFill>
        <p:spPr>
          <a:xfrm>
            <a:off x="1908000" y="3500280"/>
            <a:ext cx="460872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549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NATO member state, Armed Forces Day in Poland typically draws representatives from other allied militaries in attend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kanada"/>
          <p:cNvPicPr/>
          <p:nvPr/>
        </p:nvPicPr>
        <p:blipFill>
          <a:blip r:embed="rId1"/>
          <a:stretch/>
        </p:blipFill>
        <p:spPr>
          <a:xfrm>
            <a:off x="395280" y="1484280"/>
            <a:ext cx="5113440" cy="324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bundeswehra"/>
          <p:cNvPicPr/>
          <p:nvPr/>
        </p:nvPicPr>
        <p:blipFill>
          <a:blip r:embed="rId2"/>
          <a:stretch/>
        </p:blipFill>
        <p:spPr>
          <a:xfrm>
            <a:off x="2843280" y="3716280"/>
            <a:ext cx="5545080" cy="2611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755640" y="47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most prominent events of the day is in the capital Warsaw, which hosts a large military parade through the city's ce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wp-tanks"/>
          <p:cNvPicPr/>
          <p:nvPr/>
        </p:nvPicPr>
        <p:blipFill>
          <a:blip r:embed="rId1"/>
          <a:stretch/>
        </p:blipFill>
        <p:spPr>
          <a:xfrm>
            <a:off x="324000" y="1758960"/>
            <a:ext cx="8497800" cy="4765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resident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7:14:21Z</dcterms:created>
  <dc:creator>SK</dc:creator>
  <dc:description/>
  <dc:language>en-US</dc:language>
  <cp:lastModifiedBy>val</cp:lastModifiedBy>
  <dcterms:modified xsi:type="dcterms:W3CDTF">2017-03-18T17:04:27Z</dcterms:modified>
  <cp:revision>10</cp:revision>
  <dc:subject/>
  <dc:title>Public holidays in Poland </dc:title>
</cp:coreProperties>
</file>