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2.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0.jpeg" ContentType="image/jpeg"/>
  <Override PartName="/ppt/media/image7.gif" ContentType="image/gif"/>
  <Override PartName="/ppt/media/image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EEB7B-EEF6-4127-86C8-93A3B8D96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3B074-F209-4F8D-958C-9763E88E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5BA8D-2CF2-4990-9903-DA230855D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D759F-9437-4B8C-A988-14DFFAA27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6086D-A1BF-4532-BB1F-96F6B4AFF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25279-B066-4F7C-881C-2C2F06BE9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D7C06-2A49-4584-9E1F-53215C73F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5FC8D-AEF8-420C-B805-C8836D748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E6315-7E76-4355-96A4-24FAD7FCB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B200-A0D5-4B87-9A1E-CDAC601EE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AD3CF-30AA-4052-8B57-CB31851B9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B5CB-D106-436B-9E74-9B360FB7F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04002-2785-4593-9CFC-7011B21D6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96FDD-33C9-41B5-B772-076C4C95F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2B877-AFEE-4F71-A503-7ADABA58D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A5F04-CA46-4C18-81D2-15B486359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786E1-AB15-4F76-B83C-97943FE21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40EAC5-ED7C-45CE-9BE6-BCCAF2216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17E1D-84B3-4397-B7FC-1BC110708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E5B39-FA7C-44C0-868A-75EC403FD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C241C-0450-4539-A081-1B8FB728D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CCC5B-1DEE-416E-A4CA-6310EDEC3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C5E0D-7AA4-4D00-9583-A6E0AF777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5D2BF-CDCC-4751-8A2B-98B31D441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822F7-398D-47D5-8558-2BE08D690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C20E9-D3F9-4EFB-B585-25AEB1DED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83CED-6448-428A-8556-C5AF192B2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BC16B-68FA-4114-8826-FDC29541C0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23F34-874A-4BA2-AC14-BA552C4F2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988040-BF8B-4C63-A9BF-138F040BD1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E4462E-DFF8-4CD4-92C0-54B8D4B84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5041F-4C44-435C-B437-2C8715006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F6A98-9002-4839-8306-55A727C06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E52AA-F81F-4622-B86E-9FAB07BB6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AFD87-9DEE-470F-8DE8-378841223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971484-15AA-4666-9092-6027CB8EC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56725-FA8A-4C53-B9AD-ED735E4C8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B302B-3A6F-40DB-83BC-FDE6F1EF9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636CF-5281-455F-B572-68AF7C2C9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AC942-B8D2-40BD-9B6B-A3A6E37C3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718D0F-4A33-4181-8A57-B36294A34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AD8740-B823-44CF-914A-99F30077CF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6A3183-7503-4B1A-8CF0-E8A65C9CC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7EFEE0-C0A0-48E1-A96D-8CF2F5CD38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CBC2D-C1DE-4107-BE07-DDECCE9C0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83DF60-FE3F-46B5-80CC-0E53D9F7E5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B9CED-E902-4EA5-A020-DE96AFE15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CCEF1-5DED-4CD5-98FF-20EA9ED1F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23F909-D584-4887-B9C7-6BE18723B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50E27-0A88-46CC-BCB9-0FDA43D26C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44F02-7BFB-438D-86F1-53760F954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1B469-84D7-45B8-8971-340ABE601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7B4B2-9149-4093-B785-D5757D8AD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F2E41-4F6B-4A1B-B137-EE1754D93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DBC1EA-1475-4478-B5CC-C2DF206421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3DE4D-EC4D-4D56-ADF1-FC035089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C394B3-7675-41BA-9FAE-7B8C42675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42C0B1-91F9-4802-8957-BFC86E4485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C041DB-EB92-42E9-B842-47311E81E3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CE6BC8-5A46-4175-9AA3-DB0E65CA6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CA937F-621D-4B6B-804C-9B494C8D69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230F4-D0EC-4DD2-894E-7A07494BD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F6FEEC-74DC-4339-9977-8746F7E442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551CAF-2C32-4CD1-ACAC-AF5F5A5FA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67A1A-B1E2-4232-B28F-72A354525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E81BC-D705-4DC9-BFEC-290C21B2D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75CE-5D76-404D-A8D1-B6364A6B4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D46D5-BE2E-4CB4-A108-BA0F2C928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7BEABF-9294-4C86-A769-1D6AD15A59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6AED09-6CBC-455E-B96C-2B46F61733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886835-1CC3-4C58-9F53-D933378293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4CF39B-246E-4BF2-B3EB-54759D0800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3C801-F0E8-4F51-8D30-1810F66FB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4B6972-27B7-4C80-8595-9109C6644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41984-7AFA-4CFF-80D2-CAD860152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1D994-42BA-40EE-B638-78F5CCBEC6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88C37-AA7A-45A3-9437-8AB2F6CEE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F679-6BC0-43C5-AA48-2AFC31DA9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248DE-338E-4787-B219-A0A37B253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8D36C-0718-47FF-8994-069926446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0153F-FD04-42C7-AF8B-5FE743B13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18280D-36BD-48BE-B66A-FFEC08B782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2DDD40-4074-43C7-8285-510E8661B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7156F3-09A1-4807-8932-51AFDB007E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4C50FE-438E-4217-B351-A69AFA090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FACDB-F33D-48A3-834F-63CB8A54D7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86142-CE74-4358-A473-312DD0DD8A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BFF20-E8DA-444D-90A6-B548F78043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E98F-49EE-4064-9637-F081F829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C5646-E8C0-4F73-B4FD-EFFF527D5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B0A70-7A8B-4D80-8263-E7BDBCD68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466C1-23A3-4440-AEC1-240452754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370F7-0880-4A00-9284-E27155B3A0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215DB-08FB-4C75-A354-3F62C89154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4AF31D-B538-4A71-835E-11F316EC24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3051E2-9DB2-49CC-9CB6-140CAA489CC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CF4A-52A4-4442-A4F0-7ACC52B9688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Trójkąt równoramienny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CBE7-2D24-4D9A-9775-252EF4BFA670}" type="slidenum">
              <a:rPr b="0" lang="pl-PL"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6C68-0939-4EAD-8EE7-785FE70A46C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Trójkąt prostokątny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Trójkąt równoramienny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Łącznik prosty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Łącznik prosty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4770-7399-4579-A4DC-4B32A4777FC4}"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Trójkąt prostokątny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Łącznik prosty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Łącznik prosty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4B70-211E-4B0C-8070-24A05D2A2F7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0111-4ACC-4A9F-9BBA-8EC3CF7DA08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2707-C954-47DD-B417-BE58CC08474C}" type="slidenum">
              <a:rPr b="0" lang="pl-P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5B46-7AA9-4A2C-AE7C-5E1497EDD508}" type="slidenum">
              <a:rPr b="0" lang="pl-PL"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ytuł 1" descr=""/>
          <p:cNvPicPr/>
          <p:nvPr/>
        </p:nvPicPr>
        <p:blipFill>
          <a:blip r:embed="rId1"/>
          <a:stretch/>
        </p:blipFill>
        <p:spPr>
          <a:xfrm>
            <a:off x="676440" y="469800"/>
            <a:ext cx="8040600" cy="1481400"/>
          </a:xfrm>
          <a:prstGeom prst="rect">
            <a:avLst/>
          </a:prstGeom>
          <a:ln w="0">
            <a:noFill/>
          </a:ln>
        </p:spPr>
      </p:pic>
      <p:sp>
        <p:nvSpPr>
          <p:cNvPr id="346" name="PlaceHolder 1"/>
          <p:cNvSpPr>
            <a:spLocks noGrp="1"/>
          </p:cNvSpPr>
          <p:nvPr>
            <p:ph type="subTitle"/>
          </p:nvPr>
        </p:nvSpPr>
        <p:spPr>
          <a:xfrm>
            <a:off x="5292360" y="1553040"/>
            <a:ext cx="501480" cy="4111920"/>
          </a:xfrm>
          <a:prstGeom prst="rect">
            <a:avLst/>
          </a:prstGeom>
          <a:noFill/>
          <a:ln w="0">
            <a:noFill/>
          </a:ln>
        </p:spPr>
        <p:txBody>
          <a:bodyPr lIns="0" rIns="0" tIns="0" bIns="0" anchor="t">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000" spc="-1" strike="noStrike">
              <a:solidFill>
                <a:srgbClr val="ffffff"/>
              </a:solidFill>
              <a:latin typeface="Century Gothic"/>
            </a:endParaRPr>
          </a:p>
        </p:txBody>
      </p:sp>
      <p:pic>
        <p:nvPicPr>
          <p:cNvPr id="347" name="Obraz 3" descr="otylia.jpg"/>
          <p:cNvPicPr/>
          <p:nvPr/>
        </p:nvPicPr>
        <p:blipFill>
          <a:blip r:embed="rId2"/>
          <a:stretch/>
        </p:blipFill>
        <p:spPr>
          <a:xfrm>
            <a:off x="1403280" y="2060640"/>
            <a:ext cx="6408720" cy="3672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ytuł 1" descr=""/>
          <p:cNvPicPr/>
          <p:nvPr/>
        </p:nvPicPr>
        <p:blipFill>
          <a:blip r:embed="rId1"/>
          <a:stretch/>
        </p:blipFill>
        <p:spPr>
          <a:xfrm>
            <a:off x="450720" y="262080"/>
            <a:ext cx="8242560" cy="1231920"/>
          </a:xfrm>
          <a:prstGeom prst="rect">
            <a:avLst/>
          </a:prstGeom>
          <a:ln w="0">
            <a:noFill/>
          </a:ln>
        </p:spPr>
      </p:pic>
      <p:sp>
        <p:nvSpPr>
          <p:cNvPr id="349" name=""/>
          <p:cNvSpPr txBox="1"/>
          <p:nvPr/>
        </p:nvSpPr>
        <p:spPr>
          <a:xfrm>
            <a:off x="457200" y="1483920"/>
            <a:ext cx="8229600" cy="4970520"/>
          </a:xfrm>
          <a:prstGeom prst="rect">
            <a:avLst/>
          </a:prstGeom>
          <a:noFill/>
          <a:ln w="0">
            <a:noFill/>
          </a:ln>
        </p:spPr>
        <p:txBody>
          <a:bodyPr lIns="90000" rIns="90000" tIns="46800" bIns="46800" anchor="t">
            <a:normAutofit/>
          </a:bodyPr>
          <a:p>
            <a:pPr marL="447840" indent="-382680" algn="ctr">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entury Gothic"/>
              </a:rPr>
              <a:t>Otylia Jędrzejczak (born in 13th December 1983 in Ruda Śląska in South- West Poland) – polish swimmer , champion of Olympic Games , she has beaten three times the world record and three times in her career she was chosen the best polish athlete. In 2004 she got golden medal in Athens during Olympic Games swimming 200meters butterfly style. 5th of June on Polish Championship she decided that she’s career ends. </a:t>
            </a:r>
            <a:endParaRPr b="0" lang="en-US" sz="3000" spc="-1" strike="noStrike">
              <a:solidFill>
                <a:srgbClr val="ffffff"/>
              </a:solidFill>
              <a:latin typeface="Century Gothic"/>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Obraz 1" descr="ateny ptylia.jpg"/>
          <p:cNvPicPr/>
          <p:nvPr/>
        </p:nvPicPr>
        <p:blipFill>
          <a:blip r:embed="rId1"/>
          <a:stretch/>
        </p:blipFill>
        <p:spPr>
          <a:xfrm>
            <a:off x="250920" y="189000"/>
            <a:ext cx="5232240" cy="3527280"/>
          </a:xfrm>
          <a:prstGeom prst="rect">
            <a:avLst/>
          </a:prstGeom>
          <a:ln w="0">
            <a:noFill/>
          </a:ln>
        </p:spPr>
      </p:pic>
      <p:pic>
        <p:nvPicPr>
          <p:cNvPr id="351" name="Obraz 2" descr="otylka.jpg"/>
          <p:cNvPicPr/>
          <p:nvPr/>
        </p:nvPicPr>
        <p:blipFill>
          <a:blip r:embed="rId2"/>
          <a:stretch/>
        </p:blipFill>
        <p:spPr>
          <a:xfrm>
            <a:off x="4356000" y="3716280"/>
            <a:ext cx="4543560" cy="2952720"/>
          </a:xfrm>
          <a:prstGeom prst="rect">
            <a:avLst/>
          </a:prstGeom>
          <a:ln w="0">
            <a:noFill/>
          </a:ln>
        </p:spPr>
      </p:pic>
      <p:pic>
        <p:nvPicPr>
          <p:cNvPr id="352" name="Picture 2" descr="http://www.aquapos.pl/images/%20gf%20grs%20.gif"/>
          <p:cNvPicPr/>
          <p:nvPr/>
        </p:nvPicPr>
        <p:blipFill>
          <a:blip r:embed="rId3"/>
          <a:stretch/>
        </p:blipFill>
        <p:spPr>
          <a:xfrm>
            <a:off x="539640" y="3645000"/>
            <a:ext cx="4611960" cy="3619440"/>
          </a:xfrm>
          <a:prstGeom prst="rect">
            <a:avLst/>
          </a:prstGeom>
          <a:ln w="0">
            <a:noFill/>
          </a:ln>
        </p:spPr>
      </p:pic>
      <p:pic>
        <p:nvPicPr>
          <p:cNvPr id="353" name="Picture 4" descr="http://www.gimnazjumsiolkowice.pl/pliki/images/podium.gif"/>
          <p:cNvPicPr/>
          <p:nvPr/>
        </p:nvPicPr>
        <p:blipFill>
          <a:blip r:embed="rId4"/>
          <a:stretch/>
        </p:blipFill>
        <p:spPr>
          <a:xfrm>
            <a:off x="6227640" y="476280"/>
            <a:ext cx="2028960" cy="266544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ytuł 1" descr=""/>
          <p:cNvPicPr/>
          <p:nvPr/>
        </p:nvPicPr>
        <p:blipFill>
          <a:blip r:embed="rId1"/>
          <a:stretch/>
        </p:blipFill>
        <p:spPr>
          <a:xfrm>
            <a:off x="2908440" y="255600"/>
            <a:ext cx="3193920" cy="140796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ctr">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r career began by trainings in Pałac Młodzieży in Katowice. 4th of August 2002 she beaten her first world record at Europe Championship in Berlin. Three years later she beaten it again 28th July in Montreal. In December 2007 in Debreczyn she got golden medal in Europe</a:t>
            </a:r>
            <a:r>
              <a:rPr b="0" lang="pl-PL" sz="3000" spc="-1" strike="noStrike">
                <a:solidFill>
                  <a:srgbClr val="ffffff"/>
                </a:solidFill>
                <a:latin typeface="Century Gothic"/>
              </a:rPr>
              <a:t>an</a:t>
            </a:r>
            <a:r>
              <a:rPr b="0" lang="en-US" sz="3000" spc="-1" strike="noStrike">
                <a:solidFill>
                  <a:srgbClr val="ffffff"/>
                </a:solidFill>
                <a:latin typeface="Century Gothic"/>
              </a:rPr>
              <a:t> Championship and beaten next world record. </a:t>
            </a:r>
            <a:endParaRPr b="0" lang="en-US" sz="3000" spc="-1" strike="noStrike">
              <a:solidFill>
                <a:srgbClr val="ffffff"/>
              </a:solidFill>
              <a:latin typeface="Century Gothic"/>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http://move-sport.pl/wp-content/uploads/2014/01/otylia-jedrzejczak-home2.jpg"/>
          <p:cNvPicPr/>
          <p:nvPr/>
        </p:nvPicPr>
        <p:blipFill>
          <a:blip r:embed="rId1"/>
          <a:stretch/>
        </p:blipFill>
        <p:spPr>
          <a:xfrm>
            <a:off x="179280" y="0"/>
            <a:ext cx="3600720" cy="3600360"/>
          </a:xfrm>
          <a:prstGeom prst="rect">
            <a:avLst/>
          </a:prstGeom>
          <a:ln w="0">
            <a:noFill/>
          </a:ln>
        </p:spPr>
      </p:pic>
      <p:pic>
        <p:nvPicPr>
          <p:cNvPr id="357" name="Picture 4" descr="http://wiewiorkajulia.pl/wp-content/uploads/2014/11/Otylia-J%C4%99drzejczak.jpg"/>
          <p:cNvPicPr/>
          <p:nvPr/>
        </p:nvPicPr>
        <p:blipFill>
          <a:blip r:embed="rId2"/>
          <a:stretch/>
        </p:blipFill>
        <p:spPr>
          <a:xfrm>
            <a:off x="1619280" y="3213000"/>
            <a:ext cx="3168720" cy="3270240"/>
          </a:xfrm>
          <a:prstGeom prst="rect">
            <a:avLst/>
          </a:prstGeom>
          <a:ln w="0">
            <a:noFill/>
          </a:ln>
        </p:spPr>
      </p:pic>
      <p:pic>
        <p:nvPicPr>
          <p:cNvPr id="358" name="Picture 6" descr="http://falasportu.pl/wp-content/uploads/2014/10/254679_262488240445086_5464001_n.jpg"/>
          <p:cNvPicPr/>
          <p:nvPr/>
        </p:nvPicPr>
        <p:blipFill>
          <a:blip r:embed="rId3"/>
          <a:stretch/>
        </p:blipFill>
        <p:spPr>
          <a:xfrm>
            <a:off x="5003640" y="476280"/>
            <a:ext cx="3864240" cy="579744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ytuł 1" descr=""/>
          <p:cNvPicPr/>
          <p:nvPr/>
        </p:nvPicPr>
        <p:blipFill>
          <a:blip r:embed="rId1"/>
          <a:stretch/>
        </p:blipFill>
        <p:spPr>
          <a:xfrm>
            <a:off x="450720" y="262080"/>
            <a:ext cx="8242560" cy="1407960"/>
          </a:xfrm>
          <a:prstGeom prst="rect">
            <a:avLst/>
          </a:prstGeom>
          <a:ln w="0">
            <a:noFill/>
          </a:ln>
        </p:spPr>
      </p:pic>
      <p:sp>
        <p:nvSpPr>
          <p:cNvPr id="36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ctr">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1st  October 2005 she had</a:t>
            </a:r>
            <a:r>
              <a:rPr b="0" lang="pl-PL" sz="3000" spc="-1" strike="noStrike">
                <a:solidFill>
                  <a:srgbClr val="ffffff"/>
                </a:solidFill>
                <a:latin typeface="Century Gothic"/>
              </a:rPr>
              <a:t> a</a:t>
            </a:r>
            <a:r>
              <a:rPr b="0" lang="en-US" sz="3000" spc="-1" strike="noStrike">
                <a:solidFill>
                  <a:srgbClr val="ffffff"/>
                </a:solidFill>
                <a:latin typeface="Century Gothic"/>
              </a:rPr>
              <a:t> car-crack. She was a driver. Her brother Szymon Jędrzejczak, who also was a swimmer, died. It was really sad part of her life. The prosecutor's office has set it</a:t>
            </a:r>
            <a:r>
              <a:rPr b="0" lang="pl-PL" sz="3000" spc="-1" strike="noStrike">
                <a:solidFill>
                  <a:srgbClr val="ffffff"/>
                </a:solidFill>
                <a:latin typeface="Century Gothic"/>
              </a:rPr>
              <a:t>’</a:t>
            </a:r>
            <a:r>
              <a:rPr b="0" lang="en-US" sz="3000" spc="-1" strike="noStrike">
                <a:solidFill>
                  <a:srgbClr val="ffffff"/>
                </a:solidFill>
                <a:latin typeface="Century Gothic"/>
              </a:rPr>
              <a:t>s objection of an accident resulting in death.</a:t>
            </a:r>
            <a:r>
              <a:rPr b="0" lang="pl-PL" sz="3000" spc="-1" strike="noStrike">
                <a:solidFill>
                  <a:srgbClr val="ffffff"/>
                </a:solidFill>
                <a:latin typeface="Century Gothic"/>
              </a:rPr>
              <a:t> </a:t>
            </a:r>
            <a:r>
              <a:rPr b="0" lang="en-US" sz="3000" spc="-1" strike="noStrike">
                <a:solidFill>
                  <a:srgbClr val="ffffff"/>
                </a:solidFill>
                <a:latin typeface="Century Gothic"/>
              </a:rPr>
              <a:t>In the process, she was sentenced to nine months work for social purposes of 30 hours per month, also received a driving ban for one year.</a:t>
            </a:r>
            <a:endParaRPr b="0" lang="en-US" sz="3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http://bigmoose.blox.pl/resource/Bryka_Otylii.jpg"/>
          <p:cNvPicPr/>
          <p:nvPr/>
        </p:nvPicPr>
        <p:blipFill>
          <a:blip r:embed="rId1"/>
          <a:stretch/>
        </p:blipFill>
        <p:spPr>
          <a:xfrm>
            <a:off x="395280" y="333360"/>
            <a:ext cx="5432400" cy="3429000"/>
          </a:xfrm>
          <a:prstGeom prst="rect">
            <a:avLst/>
          </a:prstGeom>
          <a:ln w="0">
            <a:noFill/>
          </a:ln>
        </p:spPr>
      </p:pic>
      <p:pic>
        <p:nvPicPr>
          <p:cNvPr id="362" name="Picture 4" descr="http://img.interia.pl/motoryzacja/nimg/Wypadek_Otylii_792834.jpg"/>
          <p:cNvPicPr/>
          <p:nvPr/>
        </p:nvPicPr>
        <p:blipFill>
          <a:blip r:embed="rId2"/>
          <a:stretch/>
        </p:blipFill>
        <p:spPr>
          <a:xfrm>
            <a:off x="4572000" y="3860640"/>
            <a:ext cx="4103640" cy="2770200"/>
          </a:xfrm>
          <a:prstGeom prst="rect">
            <a:avLst/>
          </a:prstGeom>
          <a:ln w="0">
            <a:noFill/>
          </a:ln>
        </p:spPr>
      </p:pic>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ytuł 1" descr=""/>
          <p:cNvPicPr/>
          <p:nvPr/>
        </p:nvPicPr>
        <p:blipFill>
          <a:blip r:embed="rId1"/>
          <a:stretch/>
        </p:blipFill>
        <p:spPr>
          <a:xfrm>
            <a:off x="347760" y="122400"/>
            <a:ext cx="8431200" cy="1547640"/>
          </a:xfrm>
          <a:prstGeom prst="rect">
            <a:avLst/>
          </a:prstGeom>
          <a:ln w="0">
            <a:noFill/>
          </a:ln>
        </p:spPr>
      </p:pic>
      <p:pic>
        <p:nvPicPr>
          <p:cNvPr id="364" name="Picture 2" descr="http://cdn19.se.smcloud.net/t/photos/t/392617/celebrity-splash-otylia-jedrzejczak_22125404.jpg"/>
          <p:cNvPicPr/>
          <p:nvPr/>
        </p:nvPicPr>
        <p:blipFill>
          <a:blip r:embed="rId2"/>
          <a:stretch/>
        </p:blipFill>
        <p:spPr>
          <a:xfrm>
            <a:off x="684360" y="1989000"/>
            <a:ext cx="2995560" cy="4292640"/>
          </a:xfrm>
          <a:prstGeom prst="rect">
            <a:avLst/>
          </a:prstGeom>
          <a:ln w="0">
            <a:noFill/>
          </a:ln>
        </p:spPr>
      </p:pic>
      <p:pic>
        <p:nvPicPr>
          <p:cNvPr id="365" name="Picture 4" descr="http://w3.satkurier.pl/pliki/23384.jpg"/>
          <p:cNvPicPr/>
          <p:nvPr/>
        </p:nvPicPr>
        <p:blipFill>
          <a:blip r:embed="rId3"/>
          <a:stretch/>
        </p:blipFill>
        <p:spPr>
          <a:xfrm>
            <a:off x="5219640" y="1628640"/>
            <a:ext cx="3681360" cy="2448000"/>
          </a:xfrm>
          <a:prstGeom prst="rect">
            <a:avLst/>
          </a:prstGeom>
          <a:ln w="0">
            <a:noFill/>
          </a:ln>
        </p:spPr>
      </p:pic>
      <p:pic>
        <p:nvPicPr>
          <p:cNvPr id="366" name="Picture 6" descr="http://ocdn.eu/images/pulscms/Zjg7MDQsMSwxMzYsY2Q4LDczOTswNiwzMzIsMWNj/7b78c5a1786a5cded5a8f4da733db679.jpg"/>
          <p:cNvPicPr/>
          <p:nvPr/>
        </p:nvPicPr>
        <p:blipFill>
          <a:blip r:embed="rId4"/>
          <a:stretch/>
        </p:blipFill>
        <p:spPr>
          <a:xfrm>
            <a:off x="3995640" y="4221000"/>
            <a:ext cx="4334040" cy="243684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ytuł 1" descr=""/>
          <p:cNvPicPr/>
          <p:nvPr/>
        </p:nvPicPr>
        <p:blipFill>
          <a:blip r:embed="rId1"/>
          <a:stretch/>
        </p:blipFill>
        <p:spPr>
          <a:xfrm>
            <a:off x="450720" y="262080"/>
            <a:ext cx="8394840" cy="6053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7T11:31:56Z</dcterms:created>
  <dc:creator>kasia</dc:creator>
  <dc:description/>
  <dc:language>en-US</dc:language>
  <cp:lastModifiedBy>Marek</cp:lastModifiedBy>
  <dcterms:modified xsi:type="dcterms:W3CDTF">2016-02-17T14:22:49Z</dcterms:modified>
  <cp:revision>14</cp:revision>
  <dc:subject/>
  <dc:title>Otylia Jędrzejczak</dc:title>
</cp:coreProperties>
</file>