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jpeg" ContentType="image/jpeg"/>
  <Override PartName="/ppt/media/image12.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19.png" ContentType="image/png"/>
  <Override PartName="/ppt/media/image1.png" ContentType="image/png"/>
  <Override PartName="/ppt/media/image18.jpeg" ContentType="image/jpeg"/>
  <Override PartName="/ppt/media/image16.jpeg" ContentType="image/jpeg"/>
  <Override PartName="/ppt/media/image15.png" ContentType="image/png"/>
  <Override PartName="/ppt/media/image10.jpeg" ContentType="image/jpeg"/>
  <Override PartName="/ppt/media/image7.gif" ContentType="image/gif"/>
  <Override PartName="/ppt/media/image5.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6D2A4-F140-492E-ACAB-B9D633DF3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791AC-CF71-44DE-9092-F58054201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C9109-652C-4065-845D-D477B5D11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C5CD0-D991-446E-BF20-0A56C2EAA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B2511-A6AA-4B04-B634-213B5918F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72455-D056-4AB7-8CBA-93EABE957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40630-ED09-4143-B4B8-B76A44082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DB8C5-9BB6-4375-9095-D1B08BDE7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09EC7-B277-4FD3-9E6A-9B8C145C7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446AF-A2E5-4AEC-953F-3B16D9845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FECF9-78B9-4A40-BAB6-17B0AE905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D0271-75E0-4270-A726-CE1A20656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4BDDA-5939-41E7-A4D4-48C323646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1FDD8-184B-4443-84F3-15FAAB64A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83A8D-C433-4E25-A5E9-68638CFAA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FE33F-95D5-45E8-AACB-D7DF99EFA0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C516F-C19E-411C-A0B5-4FD13EBB1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32C3CD-C5DD-40C8-A3A9-8D92F12F51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7D2A79-0724-4AB0-B5A5-309EC53E0C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73F17-0E2E-48CD-A59C-8276BD2E1D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F92F0-7B8C-4688-8BB7-4177EA92D4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F15EDE-A0A8-497F-95B4-11816A2B42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A6519-346B-48AD-9E2D-70C1A2BEF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D4F39A-CEA0-48F5-BD13-786132D638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A5A46-723C-4A7A-B0FC-B795D85AB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C1AF1-0D68-464C-8F35-FE85788DD2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FCA70-81A7-4D26-BA9B-388C9C255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D83348-396E-4DF7-BDC1-5A50885434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3EF012-F5CA-4AB5-8C2A-F4BF140FB3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A513D0-C884-49D8-B564-5BEE81FA5C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EADB26-C310-4AEC-B629-BC7DFE9879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7F616E-07DD-4B07-AB8F-F5D5D2781D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EFC978-57E1-4877-AFB5-D4C59D4FC7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B9509-C501-42AB-823B-20CD168EB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C8892D-3BE4-4BCC-B61C-91AE1C91CE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F6B0B7-B063-4555-A749-31A68FBC70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50912E-4E74-4B09-AE0C-ECAADDD01F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6BF320-5B07-465D-8652-69A3D3519A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A0B6C-6B8F-4E16-8392-CB28EECECB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6DC254-8485-49F4-B9CB-ED33FBB3B5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D4956D-EAD0-47E8-BF77-5B24113C7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5BCC2E-A69E-4834-935E-734B2D4F50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5460CE-60C1-4209-B3DB-3B1734C5B5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69B254-3C52-4534-A60A-C4A6A03CB3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F823A-D075-4629-98AB-52E6B87A8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B2A263-D065-4EB8-81AD-74E8AE1FD5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572FF7-79EF-445E-8EA2-634E04CD35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21B65A-7FB4-4BEB-8D9B-38A701475F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7EC148-A882-474B-8E70-064D1855D3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9CFDA1-02EF-473B-81B2-3DC836E9E3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6DCD3D-7451-497F-B3EC-CD084BF5B7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506153-CBC0-4917-8BB8-267E2AF67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EA260A-8034-4DEE-AE64-B5D060FFE1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67C306-B689-47C8-9648-7087D3AD30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ECCFDC-DC85-411D-A16A-74F734E5E3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C6B98-0710-4405-A11A-A6302FA8C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745B9F-2221-4945-B2DF-6C928D37B7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8628B9-D625-46D8-B050-1CA1BF3D0A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89BFDE-AFBB-4D31-BC21-3A820B0AAC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3C953B-DD99-4957-AFE8-5A16D3FF69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47FF30-B614-4364-A6D2-F5DDCB0711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0876DF-86D4-49F1-B145-8A047D50FB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41D351-89D5-4A64-B3BC-6C81685880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DEB3A1-308A-49BD-A14E-7D0B29673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105F3F-91F0-462D-94B3-60B4E89E24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C638CB-6BDD-402F-9F96-E0B16FAAD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A1E46-42CF-4BE4-8A47-E1FB342D8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8833A0-E6D5-4076-BB71-C4DA0AD80C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241287-F41E-4057-949F-7FD6A642B0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A7B8D0-6DFC-47EE-8512-CC575BBC91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5A390E-C0EE-49D9-9244-CCD99B0EDF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6C03F1-AEC7-49F4-951C-D9C1F36B34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1039A3-27E6-43B3-A286-31720F10D0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C3D5FD-CF1D-444E-B2CA-9952A515AC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402F05-CD8A-43B6-A55B-F9923B35E9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F18BAE-5A4F-479A-9013-6F628B788A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CBCED0-2A01-4485-892D-44B19DF59D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F48D6-0AFD-4AD2-9CB7-87AB217D2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4CF9B8-8952-427A-8955-80F551668C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A3E111-BAFC-49F8-97D6-03140026E4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105268-7791-4B97-AECE-6A7BDD7963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60DD22-5C7E-44D4-AF24-E238ED596C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767A29-3FD2-4F2F-BEE8-DD6169D409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4F86CF-2522-4B01-8A4D-D68B779910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CA2A61-337A-4A4C-B153-14C649AD9E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E6801E-CCE8-4D16-B70B-6BBC604C29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02082F-9BE3-4D82-BD0B-5F210B0034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8FA30E-A4C1-4838-9C02-9D983640A4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CAF06-F868-42EF-ABB6-1B9DB489A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0F4816-DB9F-4B38-AD00-0FB6CBC2B0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7C4235-FA20-4F45-B284-621BF842F2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676B78-7800-4321-9596-2DCCFF6D10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C10556-3DE1-42E6-9D81-C45BE465CE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143BDB-190C-414F-BA6B-75481D60A4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B88792-E1DB-40E8-8CB7-9239FFC838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E21046-FF8D-4D01-B303-D6F092650EA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Trójkąt prostokątny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Łącznik prosty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Łącznik prosty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CEFF-0554-4578-993E-54AD5C859114}"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Trójkąt prostokątny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Łącznik prosty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Łącznik prosty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Trójkąt równoramienny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ACED-693B-4547-A097-1A2F265AA0D3}" type="slidenum">
              <a:rPr b="0" lang="pl-PL"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Trójkąt prostokątny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Łącznik prosty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Łącznik prosty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2791-A93B-4D2A-8DB3-E148B53778A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Trójkąt prostokątny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Trójkąt równoramienny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Łącznik prosty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Łącznik prosty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8B73-F763-4197-AA0A-BD79D9DCC36A}" type="slidenum">
              <a:rPr b="0" lang="pl-P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Trójkąt prostokątny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Łącznik prosty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Łącznik prosty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DA31-9400-42EC-A74C-B3B2AC74F092}"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A90F-6A12-4EB6-BF0D-F7BD0EAB77C5}"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A747-A1C5-4459-8DA1-5748A42B08A7}" type="slidenum">
              <a:rPr b="0" lang="pl-P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6AE2-1CA3-4622-AB6C-66368EEB3ED3}" type="slidenum">
              <a:rPr b="0" lang="pl-PL"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ytuł 1" descr=""/>
          <p:cNvPicPr/>
          <p:nvPr/>
        </p:nvPicPr>
        <p:blipFill>
          <a:blip r:embed="rId1"/>
          <a:stretch/>
        </p:blipFill>
        <p:spPr>
          <a:xfrm>
            <a:off x="676440" y="469800"/>
            <a:ext cx="8040600" cy="1481400"/>
          </a:xfrm>
          <a:prstGeom prst="rect">
            <a:avLst/>
          </a:prstGeom>
          <a:ln w="0">
            <a:noFill/>
          </a:ln>
        </p:spPr>
      </p:pic>
      <p:sp>
        <p:nvSpPr>
          <p:cNvPr id="346" name="PlaceHolder 1"/>
          <p:cNvSpPr>
            <a:spLocks noGrp="1"/>
          </p:cNvSpPr>
          <p:nvPr>
            <p:ph type="subTitle"/>
          </p:nvPr>
        </p:nvSpPr>
        <p:spPr>
          <a:xfrm>
            <a:off x="5292360" y="1553040"/>
            <a:ext cx="501480" cy="4111920"/>
          </a:xfrm>
          <a:prstGeom prst="rect">
            <a:avLst/>
          </a:prstGeom>
          <a:noFill/>
          <a:ln w="0">
            <a:noFill/>
          </a:ln>
        </p:spPr>
        <p:txBody>
          <a:bodyPr lIns="0" rIns="0" tIns="0" bIns="0" anchor="t">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000" spc="-1" strike="noStrike">
              <a:solidFill>
                <a:srgbClr val="ffffff"/>
              </a:solidFill>
              <a:latin typeface="Century Gothic"/>
            </a:endParaRPr>
          </a:p>
        </p:txBody>
      </p:sp>
      <p:pic>
        <p:nvPicPr>
          <p:cNvPr id="347" name="Obraz 3" descr="otylia.jpg"/>
          <p:cNvPicPr/>
          <p:nvPr/>
        </p:nvPicPr>
        <p:blipFill>
          <a:blip r:embed="rId2"/>
          <a:stretch/>
        </p:blipFill>
        <p:spPr>
          <a:xfrm>
            <a:off x="1403280" y="2060640"/>
            <a:ext cx="6408720" cy="36720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ytuł 1" descr=""/>
          <p:cNvPicPr/>
          <p:nvPr/>
        </p:nvPicPr>
        <p:blipFill>
          <a:blip r:embed="rId1"/>
          <a:stretch/>
        </p:blipFill>
        <p:spPr>
          <a:xfrm>
            <a:off x="450720" y="262080"/>
            <a:ext cx="8242560" cy="1231920"/>
          </a:xfrm>
          <a:prstGeom prst="rect">
            <a:avLst/>
          </a:prstGeom>
          <a:ln w="0">
            <a:noFill/>
          </a:ln>
        </p:spPr>
      </p:pic>
      <p:sp>
        <p:nvSpPr>
          <p:cNvPr id="349" name=""/>
          <p:cNvSpPr txBox="1"/>
          <p:nvPr/>
        </p:nvSpPr>
        <p:spPr>
          <a:xfrm>
            <a:off x="457200" y="1483920"/>
            <a:ext cx="8229600" cy="4970520"/>
          </a:xfrm>
          <a:prstGeom prst="rect">
            <a:avLst/>
          </a:prstGeom>
          <a:noFill/>
          <a:ln w="0">
            <a:noFill/>
          </a:ln>
        </p:spPr>
        <p:txBody>
          <a:bodyPr lIns="90000" rIns="90000" tIns="46800" bIns="46800" anchor="t">
            <a:normAutofit/>
          </a:bodyPr>
          <a:p>
            <a:pPr marL="447840" indent="-382680" algn="ctr">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entury Gothic"/>
              </a:rPr>
              <a:t>Otylia Jędrzejczak (born in 13th December 1983 in Ruda Śląska in South- West Poland) – polish swimmer , champion of Olympic Games , she has beaten three times the world record and three times in her career she was chosen the best polish athlete. In 2004 she got golden medal in Athens during Olympic Games swimming 200meters butterfly style. 5th of June on Polish Championship she decided that she’s career ends. </a:t>
            </a:r>
            <a:endParaRPr b="0" lang="en-US" sz="3000" spc="-1" strike="noStrike">
              <a:solidFill>
                <a:srgbClr val="ffffff"/>
              </a:solidFill>
              <a:latin typeface="Century Gothic"/>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Obraz 1" descr="ateny ptylia.jpg"/>
          <p:cNvPicPr/>
          <p:nvPr/>
        </p:nvPicPr>
        <p:blipFill>
          <a:blip r:embed="rId1"/>
          <a:stretch/>
        </p:blipFill>
        <p:spPr>
          <a:xfrm>
            <a:off x="250920" y="189000"/>
            <a:ext cx="5232240" cy="3527280"/>
          </a:xfrm>
          <a:prstGeom prst="rect">
            <a:avLst/>
          </a:prstGeom>
          <a:ln w="0">
            <a:noFill/>
          </a:ln>
        </p:spPr>
      </p:pic>
      <p:pic>
        <p:nvPicPr>
          <p:cNvPr id="351" name="Obraz 2" descr="otylka.jpg"/>
          <p:cNvPicPr/>
          <p:nvPr/>
        </p:nvPicPr>
        <p:blipFill>
          <a:blip r:embed="rId2"/>
          <a:stretch/>
        </p:blipFill>
        <p:spPr>
          <a:xfrm>
            <a:off x="4356000" y="3716280"/>
            <a:ext cx="4543560" cy="2952720"/>
          </a:xfrm>
          <a:prstGeom prst="rect">
            <a:avLst/>
          </a:prstGeom>
          <a:ln w="0">
            <a:noFill/>
          </a:ln>
        </p:spPr>
      </p:pic>
      <p:pic>
        <p:nvPicPr>
          <p:cNvPr id="352" name="Picture 2" descr="http://www.aquapos.pl/images/%20gf%20grs%20.gif"/>
          <p:cNvPicPr/>
          <p:nvPr/>
        </p:nvPicPr>
        <p:blipFill>
          <a:blip r:embed="rId3"/>
          <a:stretch/>
        </p:blipFill>
        <p:spPr>
          <a:xfrm>
            <a:off x="539640" y="3645000"/>
            <a:ext cx="4611960" cy="3619440"/>
          </a:xfrm>
          <a:prstGeom prst="rect">
            <a:avLst/>
          </a:prstGeom>
          <a:ln w="0">
            <a:noFill/>
          </a:ln>
        </p:spPr>
      </p:pic>
      <p:pic>
        <p:nvPicPr>
          <p:cNvPr id="353" name="Picture 4" descr="http://www.gimnazjumsiolkowice.pl/pliki/images/podium.gif"/>
          <p:cNvPicPr/>
          <p:nvPr/>
        </p:nvPicPr>
        <p:blipFill>
          <a:blip r:embed="rId4"/>
          <a:stretch/>
        </p:blipFill>
        <p:spPr>
          <a:xfrm>
            <a:off x="6227640" y="476280"/>
            <a:ext cx="2028960" cy="266544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ytuł 1" descr=""/>
          <p:cNvPicPr/>
          <p:nvPr/>
        </p:nvPicPr>
        <p:blipFill>
          <a:blip r:embed="rId1"/>
          <a:stretch/>
        </p:blipFill>
        <p:spPr>
          <a:xfrm>
            <a:off x="2908440" y="255600"/>
            <a:ext cx="3193920" cy="1407960"/>
          </a:xfrm>
          <a:prstGeom prst="rect">
            <a:avLst/>
          </a:prstGeom>
          <a:ln w="0">
            <a:noFill/>
          </a:ln>
        </p:spPr>
      </p:pic>
      <p:sp>
        <p:nvSpPr>
          <p:cNvPr id="35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ctr">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er career began by trainings in Pałac Młodzieży in Katowice. 4th of August 2002 she beaten her first world record at Europe Championship in Berlin. Three years later she beaten it again 28th July in Montreal. In December 2007 in Debreczyn she got golden medal in Europe</a:t>
            </a:r>
            <a:r>
              <a:rPr b="0" lang="pl-PL" sz="3000" spc="-1" strike="noStrike">
                <a:solidFill>
                  <a:srgbClr val="ffffff"/>
                </a:solidFill>
                <a:latin typeface="Century Gothic"/>
              </a:rPr>
              <a:t>an</a:t>
            </a:r>
            <a:r>
              <a:rPr b="0" lang="en-US" sz="3000" spc="-1" strike="noStrike">
                <a:solidFill>
                  <a:srgbClr val="ffffff"/>
                </a:solidFill>
                <a:latin typeface="Century Gothic"/>
              </a:rPr>
              <a:t> Championship and beaten next world record. </a:t>
            </a:r>
            <a:endParaRPr b="0" lang="en-US" sz="3000" spc="-1" strike="noStrike">
              <a:solidFill>
                <a:srgbClr val="ffffff"/>
              </a:solidFill>
              <a:latin typeface="Century Gothic"/>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http://move-sport.pl/wp-content/uploads/2014/01/otylia-jedrzejczak-home2.jpg"/>
          <p:cNvPicPr/>
          <p:nvPr/>
        </p:nvPicPr>
        <p:blipFill>
          <a:blip r:embed="rId1"/>
          <a:stretch/>
        </p:blipFill>
        <p:spPr>
          <a:xfrm>
            <a:off x="179280" y="0"/>
            <a:ext cx="3600720" cy="3600360"/>
          </a:xfrm>
          <a:prstGeom prst="rect">
            <a:avLst/>
          </a:prstGeom>
          <a:ln w="0">
            <a:noFill/>
          </a:ln>
        </p:spPr>
      </p:pic>
      <p:pic>
        <p:nvPicPr>
          <p:cNvPr id="357" name="Picture 4" descr="http://wiewiorkajulia.pl/wp-content/uploads/2014/11/Otylia-J%C4%99drzejczak.jpg"/>
          <p:cNvPicPr/>
          <p:nvPr/>
        </p:nvPicPr>
        <p:blipFill>
          <a:blip r:embed="rId2"/>
          <a:stretch/>
        </p:blipFill>
        <p:spPr>
          <a:xfrm>
            <a:off x="1619280" y="3213000"/>
            <a:ext cx="3168720" cy="3270240"/>
          </a:xfrm>
          <a:prstGeom prst="rect">
            <a:avLst/>
          </a:prstGeom>
          <a:ln w="0">
            <a:noFill/>
          </a:ln>
        </p:spPr>
      </p:pic>
      <p:pic>
        <p:nvPicPr>
          <p:cNvPr id="358" name="Picture 6" descr="http://falasportu.pl/wp-content/uploads/2014/10/254679_262488240445086_5464001_n.jpg"/>
          <p:cNvPicPr/>
          <p:nvPr/>
        </p:nvPicPr>
        <p:blipFill>
          <a:blip r:embed="rId3"/>
          <a:stretch/>
        </p:blipFill>
        <p:spPr>
          <a:xfrm>
            <a:off x="5003640" y="476280"/>
            <a:ext cx="3864240" cy="5797440"/>
          </a:xfrm>
          <a:prstGeom prst="rect">
            <a:avLst/>
          </a:prstGeom>
          <a:ln w="0">
            <a:noFill/>
          </a:ln>
        </p:spPr>
      </p:pic>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ytuł 1" descr=""/>
          <p:cNvPicPr/>
          <p:nvPr/>
        </p:nvPicPr>
        <p:blipFill>
          <a:blip r:embed="rId1"/>
          <a:stretch/>
        </p:blipFill>
        <p:spPr>
          <a:xfrm>
            <a:off x="450720" y="262080"/>
            <a:ext cx="8242560" cy="1407960"/>
          </a:xfrm>
          <a:prstGeom prst="rect">
            <a:avLst/>
          </a:prstGeom>
          <a:ln w="0">
            <a:noFill/>
          </a:ln>
        </p:spPr>
      </p:pic>
      <p:sp>
        <p:nvSpPr>
          <p:cNvPr id="36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ctr">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1st  October 2005 she had</a:t>
            </a:r>
            <a:r>
              <a:rPr b="0" lang="pl-PL" sz="3000" spc="-1" strike="noStrike">
                <a:solidFill>
                  <a:srgbClr val="ffffff"/>
                </a:solidFill>
                <a:latin typeface="Century Gothic"/>
              </a:rPr>
              <a:t> a</a:t>
            </a:r>
            <a:r>
              <a:rPr b="0" lang="en-US" sz="3000" spc="-1" strike="noStrike">
                <a:solidFill>
                  <a:srgbClr val="ffffff"/>
                </a:solidFill>
                <a:latin typeface="Century Gothic"/>
              </a:rPr>
              <a:t> car-crack. She was a driver. Her brother Szymon Jędrzejczak, who also was a swimmer, died. It was really sad part of her life. The prosecutor's office has set it</a:t>
            </a:r>
            <a:r>
              <a:rPr b="0" lang="pl-PL" sz="3000" spc="-1" strike="noStrike">
                <a:solidFill>
                  <a:srgbClr val="ffffff"/>
                </a:solidFill>
                <a:latin typeface="Century Gothic"/>
              </a:rPr>
              <a:t>’</a:t>
            </a:r>
            <a:r>
              <a:rPr b="0" lang="en-US" sz="3000" spc="-1" strike="noStrike">
                <a:solidFill>
                  <a:srgbClr val="ffffff"/>
                </a:solidFill>
                <a:latin typeface="Century Gothic"/>
              </a:rPr>
              <a:t>s objection of an accident resulting in death.</a:t>
            </a:r>
            <a:r>
              <a:rPr b="0" lang="pl-PL" sz="3000" spc="-1" strike="noStrike">
                <a:solidFill>
                  <a:srgbClr val="ffffff"/>
                </a:solidFill>
                <a:latin typeface="Century Gothic"/>
              </a:rPr>
              <a:t> </a:t>
            </a:r>
            <a:r>
              <a:rPr b="0" lang="en-US" sz="3000" spc="-1" strike="noStrike">
                <a:solidFill>
                  <a:srgbClr val="ffffff"/>
                </a:solidFill>
                <a:latin typeface="Century Gothic"/>
              </a:rPr>
              <a:t>In the process, she was sentenced to nine months work for social purposes of 30 hours per month, also received a driving ban for one year.</a:t>
            </a:r>
            <a:endParaRPr b="0" lang="en-US" sz="3000" spc="-1" strike="noStrike">
              <a:solidFill>
                <a:srgbClr val="ffffff"/>
              </a:solidFill>
              <a:latin typeface="Century Gothic"/>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http://bigmoose.blox.pl/resource/Bryka_Otylii.jpg"/>
          <p:cNvPicPr/>
          <p:nvPr/>
        </p:nvPicPr>
        <p:blipFill>
          <a:blip r:embed="rId1"/>
          <a:stretch/>
        </p:blipFill>
        <p:spPr>
          <a:xfrm>
            <a:off x="395280" y="333360"/>
            <a:ext cx="5432400" cy="3429000"/>
          </a:xfrm>
          <a:prstGeom prst="rect">
            <a:avLst/>
          </a:prstGeom>
          <a:ln w="0">
            <a:noFill/>
          </a:ln>
        </p:spPr>
      </p:pic>
      <p:pic>
        <p:nvPicPr>
          <p:cNvPr id="362" name="Picture 4" descr="http://img.interia.pl/motoryzacja/nimg/Wypadek_Otylii_792834.jpg"/>
          <p:cNvPicPr/>
          <p:nvPr/>
        </p:nvPicPr>
        <p:blipFill>
          <a:blip r:embed="rId2"/>
          <a:stretch/>
        </p:blipFill>
        <p:spPr>
          <a:xfrm>
            <a:off x="4572000" y="3860640"/>
            <a:ext cx="4103640" cy="2770200"/>
          </a:xfrm>
          <a:prstGeom prst="rect">
            <a:avLst/>
          </a:prstGeom>
          <a:ln w="0">
            <a:noFill/>
          </a:ln>
        </p:spPr>
      </p:pic>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Tytuł 1" descr=""/>
          <p:cNvPicPr/>
          <p:nvPr/>
        </p:nvPicPr>
        <p:blipFill>
          <a:blip r:embed="rId1"/>
          <a:stretch/>
        </p:blipFill>
        <p:spPr>
          <a:xfrm>
            <a:off x="347760" y="122400"/>
            <a:ext cx="8431200" cy="1547640"/>
          </a:xfrm>
          <a:prstGeom prst="rect">
            <a:avLst/>
          </a:prstGeom>
          <a:ln w="0">
            <a:noFill/>
          </a:ln>
        </p:spPr>
      </p:pic>
      <p:pic>
        <p:nvPicPr>
          <p:cNvPr id="364" name="Picture 2" descr="http://cdn19.se.smcloud.net/t/photos/t/392617/celebrity-splash-otylia-jedrzejczak_22125404.jpg"/>
          <p:cNvPicPr/>
          <p:nvPr/>
        </p:nvPicPr>
        <p:blipFill>
          <a:blip r:embed="rId2"/>
          <a:stretch/>
        </p:blipFill>
        <p:spPr>
          <a:xfrm>
            <a:off x="684360" y="1989000"/>
            <a:ext cx="2995560" cy="4292640"/>
          </a:xfrm>
          <a:prstGeom prst="rect">
            <a:avLst/>
          </a:prstGeom>
          <a:ln w="0">
            <a:noFill/>
          </a:ln>
        </p:spPr>
      </p:pic>
      <p:pic>
        <p:nvPicPr>
          <p:cNvPr id="365" name="Picture 4" descr="http://w3.satkurier.pl/pliki/23384.jpg"/>
          <p:cNvPicPr/>
          <p:nvPr/>
        </p:nvPicPr>
        <p:blipFill>
          <a:blip r:embed="rId3"/>
          <a:stretch/>
        </p:blipFill>
        <p:spPr>
          <a:xfrm>
            <a:off x="5219640" y="1628640"/>
            <a:ext cx="3681360" cy="2448000"/>
          </a:xfrm>
          <a:prstGeom prst="rect">
            <a:avLst/>
          </a:prstGeom>
          <a:ln w="0">
            <a:noFill/>
          </a:ln>
        </p:spPr>
      </p:pic>
      <p:pic>
        <p:nvPicPr>
          <p:cNvPr id="366" name="Picture 6" descr="http://ocdn.eu/images/pulscms/Zjg7MDQsMSwxMzYsY2Q4LDczOTswNiwzMzIsMWNj/7b78c5a1786a5cded5a8f4da733db679.jpg"/>
          <p:cNvPicPr/>
          <p:nvPr/>
        </p:nvPicPr>
        <p:blipFill>
          <a:blip r:embed="rId4"/>
          <a:stretch/>
        </p:blipFill>
        <p:spPr>
          <a:xfrm>
            <a:off x="3995640" y="4221000"/>
            <a:ext cx="4334040" cy="2436840"/>
          </a:xfrm>
          <a:prstGeom prst="rect">
            <a:avLst/>
          </a:prstGeom>
          <a:ln w="0">
            <a:noFill/>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ytuł 1" descr=""/>
          <p:cNvPicPr/>
          <p:nvPr/>
        </p:nvPicPr>
        <p:blipFill>
          <a:blip r:embed="rId1"/>
          <a:stretch/>
        </p:blipFill>
        <p:spPr>
          <a:xfrm>
            <a:off x="450720" y="262080"/>
            <a:ext cx="8394840" cy="60530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7T11:31:56Z</dcterms:created>
  <dc:creator>kasia</dc:creator>
  <dc:description/>
  <dc:language>en-US</dc:language>
  <cp:lastModifiedBy>Marek</cp:lastModifiedBy>
  <dcterms:modified xsi:type="dcterms:W3CDTF">2016-02-17T14:22:49Z</dcterms:modified>
  <cp:revision>14</cp:revision>
  <dc:subject/>
  <dc:title>Otylia Jędrzejczak</dc:title>
</cp:coreProperties>
</file>