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E7F-7D61-407A-A662-710983544D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6197-4016-4E9E-A41D-48EF4D8B12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3B4-986A-4E32-B4EF-50810772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E9D-9C48-4470-BB47-85153A8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EA0-CEF1-4214-82CD-1461E2B9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04D-06AE-4676-8CD0-21672D5A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291-B055-4228-8A13-A228F14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596-3BA9-4545-A492-19C19D7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ACF-7A0B-4C92-8049-847C61D3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DE3-BBC9-4753-B691-8D652FB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EDE-1598-4F43-BA46-EAB76BA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F6A-4E15-4F7B-9827-E8ADFA2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023-A668-454A-8472-6FC3BF4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4C8-DB8C-43CC-B986-DD0CE2D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C959-9EDF-47A8-84C8-161A52CF31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Sport – my hob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ADMIN\Desktop\amelia\1-sylwetka.jpg"/>
          <p:cNvPicPr/>
          <p:nvPr/>
        </p:nvPicPr>
        <p:blipFill>
          <a:blip r:embed="rId1"/>
          <a:stretch/>
        </p:blipFill>
        <p:spPr>
          <a:xfrm>
            <a:off x="642960" y="2214720"/>
            <a:ext cx="8029440" cy="383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ADMIN\Desktop\amelia\dscn2644.jpg"/>
          <p:cNvPicPr/>
          <p:nvPr/>
        </p:nvPicPr>
        <p:blipFill>
          <a:blip r:embed="rId1"/>
          <a:stretch/>
        </p:blipFill>
        <p:spPr>
          <a:xfrm>
            <a:off x="928800" y="1000080"/>
            <a:ext cx="7219800" cy="54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ADMIN\Desktop\amelia\12544104_1684605308490222_740092128_o.jpg"/>
          <p:cNvPicPr/>
          <p:nvPr/>
        </p:nvPicPr>
        <p:blipFill>
          <a:blip r:embed="rId1"/>
          <a:stretch/>
        </p:blipFill>
        <p:spPr>
          <a:xfrm>
            <a:off x="642960" y="3571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DMIN\Desktop\amelia\a4fe841d5000b43ed00cd8e425e3fb5f_L.jpg"/>
          <p:cNvPicPr/>
          <p:nvPr/>
        </p:nvPicPr>
        <p:blipFill>
          <a:blip r:embed="rId1"/>
          <a:stretch/>
        </p:blipFill>
        <p:spPr>
          <a:xfrm>
            <a:off x="1714680" y="1143000"/>
            <a:ext cx="6188040" cy="4672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ADMIN\Desktop\amelia\run.jpg"/>
          <p:cNvPicPr/>
          <p:nvPr/>
        </p:nvPicPr>
        <p:blipFill>
          <a:blip r:embed="rId1"/>
          <a:stretch/>
        </p:blipFill>
        <p:spPr>
          <a:xfrm>
            <a:off x="642960" y="928800"/>
            <a:ext cx="8072280" cy="514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elia Oleszczyń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ass VI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train 3 times a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6186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DMIN\Desktop\amelia\IMG_20160114_161231.JPG"/>
          <p:cNvPicPr/>
          <p:nvPr/>
        </p:nvPicPr>
        <p:blipFill>
          <a:blip r:embed="rId1"/>
          <a:stretch/>
        </p:blipFill>
        <p:spPr>
          <a:xfrm>
            <a:off x="2071800" y="1500120"/>
            <a:ext cx="4829040" cy="521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participate in many athletic compet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ADMIN\Desktop\amelia\12571425_1684579685159451_1465144486_n.jpg"/>
          <p:cNvPicPr/>
          <p:nvPr/>
        </p:nvPicPr>
        <p:blipFill>
          <a:blip r:embed="rId1"/>
          <a:stretch/>
        </p:blipFill>
        <p:spPr>
          <a:xfrm>
            <a:off x="164304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anks to the hard training I </a:t>
            </a: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often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nage to w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ADMIN\Desktop\amelia\FB_IMG_1452780641545.jpg"/>
          <p:cNvPicPr/>
          <p:nvPr/>
        </p:nvPicPr>
        <p:blipFill>
          <a:blip r:embed="rId1"/>
          <a:stretch/>
        </p:blipFill>
        <p:spPr>
          <a:xfrm>
            <a:off x="928800" y="1500120"/>
            <a:ext cx="6786360" cy="5089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 favorite distance is 300 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DMIN\Desktop\amelia\FB_IMG_1442681326155.jpg"/>
          <p:cNvPicPr/>
          <p:nvPr/>
        </p:nvPicPr>
        <p:blipFill>
          <a:blip r:embed="rId1"/>
          <a:stretch/>
        </p:blipFill>
        <p:spPr>
          <a:xfrm>
            <a:off x="1071720" y="1357200"/>
            <a:ext cx="6786360" cy="5089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During the c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mpetitions </a:t>
            </a: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I have met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ny interesting peo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ADMIN\Desktop\amelia\12546104_1684584288492324_1851255807_o.jpg"/>
          <p:cNvPicPr/>
          <p:nvPr/>
        </p:nvPicPr>
        <p:blipFill>
          <a:blip r:embed="rId1"/>
          <a:stretch/>
        </p:blipFill>
        <p:spPr>
          <a:xfrm>
            <a:off x="2714760" y="1716120"/>
            <a:ext cx="3714480" cy="495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re are some photos from </a:t>
            </a: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my compet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\Desktop\amelia\12528076_1684579325159487_279448095_n.jpg"/>
          <p:cNvPicPr/>
          <p:nvPr/>
        </p:nvPicPr>
        <p:blipFill>
          <a:blip r:embed="rId1"/>
          <a:stretch/>
        </p:blipFill>
        <p:spPr>
          <a:xfrm>
            <a:off x="1500120" y="16430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DMIN\Desktop\amelia\FB_IMG_1452780652081.jpg"/>
          <p:cNvPicPr/>
          <p:nvPr/>
        </p:nvPicPr>
        <p:blipFill>
          <a:blip r:embed="rId1"/>
          <a:stretch/>
        </p:blipFill>
        <p:spPr>
          <a:xfrm>
            <a:off x="714240" y="5000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DMIN\Desktop\amelia\dscn2641.jpg"/>
          <p:cNvPicPr/>
          <p:nvPr/>
        </p:nvPicPr>
        <p:blipFill>
          <a:blip r:embed="rId1"/>
          <a:stretch/>
        </p:blipFill>
        <p:spPr>
          <a:xfrm>
            <a:off x="1071720" y="1000080"/>
            <a:ext cx="6953040" cy="521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4:49:08Z</dcterms:created>
  <dc:creator>ADMIN</dc:creator>
  <dc:description/>
  <dc:language>en-US</dc:language>
  <cp:lastModifiedBy>Marek</cp:lastModifiedBy>
  <dcterms:modified xsi:type="dcterms:W3CDTF">2016-02-17T16:30:54Z</dcterms:modified>
  <cp:revision>15</cp:revision>
  <dc:subject/>
  <dc:title>Slajd 1</dc:title>
</cp:coreProperties>
</file>