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A22-6E90-4954-917F-81ADEC20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783-6DAF-4504-B77B-6E2897CA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BED-9E1E-4F60-9D2A-3AF13FA3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0D3-90D6-4E51-A3B6-ACAFAE41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1B2-CA24-4181-B85E-9D54DCCF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C46-082F-4338-9317-40F6504F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575-3B9B-4BF8-92F4-FE91E658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B57-8EA4-458E-955D-97F84C21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AA0-D6C3-4B01-97BE-DDC54C20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5CA-34C2-47C2-9BA5-DB0FCF1C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7AD-7528-44C9-991E-C04B488A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052-D78F-4B05-A0DA-4E424221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7C78-E609-47E1-AE80-E887219CEA3B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e can do it togethe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amous spo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arily Papanastasat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Zoe Filipopoul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eliti Ch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lympia Nikolopoul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odora Exert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21698" t="23327" r="24055" b="12219"/>
          <a:stretch/>
        </p:blipFill>
        <p:spPr>
          <a:xfrm>
            <a:off x="92160" y="476280"/>
            <a:ext cx="89056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Ομάδα 3"/>
          <p:cNvGrpSpPr/>
          <p:nvPr/>
        </p:nvGrpSpPr>
        <p:grpSpPr>
          <a:xfrm>
            <a:off x="299880" y="1033560"/>
            <a:ext cx="8686800" cy="3159000"/>
            <a:chOff x="299880" y="1033560"/>
            <a:chExt cx="8686800" cy="3159000"/>
          </a:xfrm>
        </p:grpSpPr>
        <p:pic>
          <p:nvPicPr>
            <p:cNvPr id="45" name="Picture 2" descr=""/>
            <p:cNvPicPr/>
            <p:nvPr/>
          </p:nvPicPr>
          <p:blipFill>
            <a:blip r:embed="rId1"/>
            <a:srcRect l="22647" t="64882" r="21803" b="12106"/>
            <a:stretch/>
          </p:blipFill>
          <p:spPr>
            <a:xfrm>
              <a:off x="314280" y="2176200"/>
              <a:ext cx="865584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" descr=""/>
            <p:cNvPicPr/>
            <p:nvPr/>
          </p:nvPicPr>
          <p:blipFill>
            <a:blip r:embed="rId2"/>
            <a:srcRect l="21698" t="74931" r="24055" b="12219"/>
            <a:stretch/>
          </p:blipFill>
          <p:spPr>
            <a:xfrm>
              <a:off x="299880" y="1033560"/>
              <a:ext cx="8686800" cy="1157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Θέση περιεχομένου 3" descr=""/>
          <p:cNvPicPr/>
          <p:nvPr/>
        </p:nvPicPr>
        <p:blipFill>
          <a:blip r:embed="rId1"/>
          <a:stretch/>
        </p:blipFill>
        <p:spPr>
          <a:xfrm>
            <a:off x="3924360" y="3573360"/>
            <a:ext cx="4743360" cy="3103560"/>
          </a:xfrm>
          <a:prstGeom prst="rect">
            <a:avLst/>
          </a:prstGeom>
          <a:ln w="0">
            <a:noFill/>
          </a:ln>
        </p:spPr>
      </p:pic>
      <p:pic>
        <p:nvPicPr>
          <p:cNvPr id="49" name="Εικόνα 4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554364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 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 players each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periods of 30 mins 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Εικόνα 3" descr=""/>
          <p:cNvPicPr/>
          <p:nvPr/>
        </p:nvPicPr>
        <p:blipFill>
          <a:blip r:embed="rId1"/>
          <a:stretch/>
        </p:blipFill>
        <p:spPr>
          <a:xfrm>
            <a:off x="1979640" y="3213000"/>
            <a:ext cx="50878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Θέση περιεχομένου 5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28344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Θέση περιεχομένου 3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Εικόνα 4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521964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Θέση περιεχομένου 3" descr=""/>
          <p:cNvPicPr/>
          <p:nvPr/>
        </p:nvPicPr>
        <p:blipFill>
          <a:blip r:embed="rId1"/>
          <a:stretch/>
        </p:blipFill>
        <p:spPr>
          <a:xfrm>
            <a:off x="3780000" y="3213000"/>
            <a:ext cx="4705200" cy="3529080"/>
          </a:xfrm>
          <a:prstGeom prst="rect">
            <a:avLst/>
          </a:prstGeom>
          <a:ln w="0">
            <a:noFill/>
          </a:ln>
        </p:spPr>
      </p:pic>
      <p:pic>
        <p:nvPicPr>
          <p:cNvPr id="60" name="Εικόνα 4" descr=""/>
          <p:cNvPicPr/>
          <p:nvPr/>
        </p:nvPicPr>
        <p:blipFill>
          <a:blip r:embed="rId2"/>
          <a:stretch/>
        </p:blipFill>
        <p:spPr>
          <a:xfrm>
            <a:off x="250920" y="15876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3:16:05Z</dcterms:created>
  <dc:creator>Alkistis</dc:creator>
  <dc:description/>
  <dc:language>en-US</dc:language>
  <cp:lastModifiedBy>USER5</cp:lastModifiedBy>
  <dcterms:modified xsi:type="dcterms:W3CDTF">2016-09-28T07:30:33Z</dcterms:modified>
  <cp:revision>10</cp:revision>
  <dc:subject/>
  <dc:title>We can do it together  Famous sport</dc:title>
</cp:coreProperties>
</file>