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0128-51DC-41C1-A673-0F770437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D4BF-1966-4B3A-9CCD-1864887E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9CFA-469B-4092-82C5-5AEC2DA2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BA61-A478-4EB8-A564-14E42A7C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E758-A100-4969-89C1-3022E845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F469-AA96-4DEC-8B4B-49283724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6C9-3BCA-47AF-B310-CA5BBDCA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7DFE-FEF0-432A-BFE0-205B703A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DB36-92E5-45AC-8E6B-3A9F17A9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A3D2-6CDA-4A64-9D48-CCD54B15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7280-E44D-4607-9C6C-9CD4B718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2B0-02A3-4D25-BDD2-0BAF2B6E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68C9-27B3-4675-8C7C-7BD6CD84D4F9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e can do it togethe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amous spo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arily Papanastasat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Zoe Filipopoul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eliti Ch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Olympia Nikolopoul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odora Exertz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21698" t="23327" r="24055" b="12219"/>
          <a:stretch/>
        </p:blipFill>
        <p:spPr>
          <a:xfrm>
            <a:off x="92160" y="476280"/>
            <a:ext cx="89056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Ομάδα 3"/>
          <p:cNvGrpSpPr/>
          <p:nvPr/>
        </p:nvGrpSpPr>
        <p:grpSpPr>
          <a:xfrm>
            <a:off x="299880" y="1033560"/>
            <a:ext cx="8686800" cy="3159000"/>
            <a:chOff x="299880" y="1033560"/>
            <a:chExt cx="8686800" cy="3159000"/>
          </a:xfrm>
        </p:grpSpPr>
        <p:pic>
          <p:nvPicPr>
            <p:cNvPr id="45" name="Picture 2" descr=""/>
            <p:cNvPicPr/>
            <p:nvPr/>
          </p:nvPicPr>
          <p:blipFill>
            <a:blip r:embed="rId1"/>
            <a:srcRect l="22647" t="64882" r="21803" b="12106"/>
            <a:stretch/>
          </p:blipFill>
          <p:spPr>
            <a:xfrm>
              <a:off x="314280" y="2176200"/>
              <a:ext cx="865584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2" descr=""/>
            <p:cNvPicPr/>
            <p:nvPr/>
          </p:nvPicPr>
          <p:blipFill>
            <a:blip r:embed="rId2"/>
            <a:srcRect l="21698" t="74931" r="24055" b="12219"/>
            <a:stretch/>
          </p:blipFill>
          <p:spPr>
            <a:xfrm>
              <a:off x="299880" y="1033560"/>
              <a:ext cx="8686800" cy="1157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Θέση περιεχομένου 3" descr=""/>
          <p:cNvPicPr/>
          <p:nvPr/>
        </p:nvPicPr>
        <p:blipFill>
          <a:blip r:embed="rId1"/>
          <a:stretch/>
        </p:blipFill>
        <p:spPr>
          <a:xfrm>
            <a:off x="3924360" y="3573360"/>
            <a:ext cx="4743360" cy="3103560"/>
          </a:xfrm>
          <a:prstGeom prst="rect">
            <a:avLst/>
          </a:prstGeom>
          <a:ln w="0">
            <a:noFill/>
          </a:ln>
        </p:spPr>
      </p:pic>
      <p:pic>
        <p:nvPicPr>
          <p:cNvPr id="49" name="Εικόνα 4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554364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m 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 players each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periods of 30 mins 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Εικόνα 3" descr=""/>
          <p:cNvPicPr/>
          <p:nvPr/>
        </p:nvPicPr>
        <p:blipFill>
          <a:blip r:embed="rId1"/>
          <a:stretch/>
        </p:blipFill>
        <p:spPr>
          <a:xfrm>
            <a:off x="1979640" y="3213000"/>
            <a:ext cx="50878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Θέση περιεχομένου 5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28344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Θέση περιεχομένου 3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Εικόνα 4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521964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Θέση περιεχομένου 3" descr=""/>
          <p:cNvPicPr/>
          <p:nvPr/>
        </p:nvPicPr>
        <p:blipFill>
          <a:blip r:embed="rId1"/>
          <a:stretch/>
        </p:blipFill>
        <p:spPr>
          <a:xfrm>
            <a:off x="3780000" y="3213000"/>
            <a:ext cx="4705200" cy="3529080"/>
          </a:xfrm>
          <a:prstGeom prst="rect">
            <a:avLst/>
          </a:prstGeom>
          <a:ln w="0">
            <a:noFill/>
          </a:ln>
        </p:spPr>
      </p:pic>
      <p:pic>
        <p:nvPicPr>
          <p:cNvPr id="60" name="Εικόνα 4" descr=""/>
          <p:cNvPicPr/>
          <p:nvPr/>
        </p:nvPicPr>
        <p:blipFill>
          <a:blip r:embed="rId2"/>
          <a:stretch/>
        </p:blipFill>
        <p:spPr>
          <a:xfrm>
            <a:off x="250920" y="15876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3:16:05Z</dcterms:created>
  <dc:creator>Alkistis</dc:creator>
  <dc:description/>
  <dc:language>en-US</dc:language>
  <cp:lastModifiedBy>USER5</cp:lastModifiedBy>
  <dcterms:modified xsi:type="dcterms:W3CDTF">2016-09-28T07:30:33Z</dcterms:modified>
  <cp:revision>10</cp:revision>
  <dc:subject/>
  <dc:title>We can do it together  Famous sport</dc:title>
</cp:coreProperties>
</file>