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12.png" ContentType="image/png"/>
  <Override PartName="/ppt/media/image7.png" ContentType="image/png"/>
  <Override PartName="/ppt/media/image22.jpeg" ContentType="image/jpeg"/>
  <Override PartName="/ppt/media/image13.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5.jpeg" ContentType="image/jpeg"/>
  <Override PartName="/ppt/media/image4.png" ContentType="image/png"/>
  <Override PartName="/ppt/media/image23.png" ContentType="image/png"/>
  <Override PartName="/ppt/media/image21.jpeg" ContentType="image/jpeg"/>
  <Override PartName="/ppt/media/image16.png" ContentType="image/png"/>
  <Override PartName="/ppt/media/image19.jpeg" ContentType="image/jpeg"/>
  <Override PartName="/ppt/media/image20.png" ContentType="image/png"/>
  <Override PartName="/ppt/media/image18.png" ContentType="image/png"/>
  <Override PartName="/ppt/media/image17.png" ContentType="image/png"/>
  <Override PartName="/ppt/media/image15.png" ContentType="image/png"/>
  <Override PartName="/ppt/media/image24.png" ContentType="image/png"/>
  <Override PartName="/ppt/media/image1.png" ContentType="image/png"/>
  <Override PartName="/ppt/media/image25.jpeg" ContentType="image/jpeg"/>
  <Override PartName="/ppt/media/image2.png" ContentType="image/png"/>
  <Override PartName="/ppt/media/image3.png" ContentType="image/png"/>
  <Override PartName="/ppt/media/image26.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7AEFEB-9E1E-4F3C-AE4E-5FD9E9B53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DA827-25A7-4428-BFC6-D5350F3F4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C6978-650C-4D1D-86CF-83C5C448C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024568-BCFF-46FC-8759-12FE479191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E2292E-8800-4A0E-A0F5-7BE523DCC3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C534EF-F5A7-4763-99E8-195656C8DB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B214B8-EF98-4F6A-BA27-0D70D1D0A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FBEB83-3680-4508-AC15-AA9C47E9B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F74B39-43F4-4005-8695-4ED30FFD65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DBCEA4-C064-4C57-A0E8-60C94215C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07095-B588-4577-93DB-82FD5E692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D1BB4-711C-4A5E-A64A-EB13D82F5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BEFF5-A279-4B0A-A5A4-379B29B1C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A6B55-FA37-497B-A10D-D5770656A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6BFC06-4ABF-4832-B543-0B983D34C3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F93458-616E-4C06-AD5D-2ABC1E4A6C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4B840D-A5FE-4E35-A1E4-23450C9B70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B1CD64-C7F8-45EC-802A-C619859F02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4E8E40-19AF-41A9-AD55-2F844FEF99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5B4D12-5BCB-4895-B812-2D0E249518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C9A6B7-26AE-47AF-8993-7B4B832099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BECD96-5C61-4B53-87EB-6CDA13DCC8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5C357-BFF8-4271-BC3B-D147841EE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024AFD-239B-473C-9851-3D4BB82821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1E5513-BDD5-4DBA-970B-6FA768041A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E6C538-05D9-40C6-9203-80B6F56DD0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08CFA6-BEC8-4E6D-821E-95C970F283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311277-B384-4ED0-84E6-EBB08CF206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F61183-BC05-4385-ACE1-3E62247445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E9FCF5-C3FE-44C5-8685-DE3886B87E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4A2AB1-DF34-4E7B-8FA3-4724D65973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C4EEDC-2E5A-4027-B09D-A2183E8A99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B664DC-782A-4B55-86C6-FB32A4F383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4C78D-460C-476E-89F6-04D031C06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919ECE-D208-4644-9DDD-B413B07180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0FAA4D-8596-4653-8847-0A6DFAD3C1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D9B0B3-07B0-4EE8-ABB8-5A14C0EFDA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D5EB93-4711-4163-AA4B-E554B8BFF9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217C96-593B-41C6-8610-4C45F99CA9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557BAB-7C89-4704-B51D-4199C01F60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23B9F1-286D-4289-9589-4C02521123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127A48-00CC-4684-9674-4E25A60CBD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F8AB96-2ECC-494F-8597-F39A0EFD5E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975D14-5E64-46C6-B554-BB0DE4390E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A8851-17A1-4F1C-944D-40F0E5610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9AA99E-6FB2-477F-B94A-BE387ABFED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3EFA6F-16CB-4C9E-A5AB-30E72DEFE5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71F150-9DAA-42E5-AD28-31DDBEE1A5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995945-2CA4-4851-9C98-8C38E838B4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968683-E938-49E4-8323-824FCB7ECD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729FC1-6595-46F5-BF41-A5EA9B6B86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E3433C-BE20-4745-9C57-DC1C42584D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F6CFC3-C1B1-43F0-B5CA-CAF260AC85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328FFF-32C6-4897-AFC7-ED000675A4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46ACD6-C5E6-4E93-A90C-3579947CBC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E3CBF-9F7C-4D18-BA18-4713B5C32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8DDCC5-0235-4D02-8C4D-F595B0E657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D834F0-17F9-4C25-91F9-77DB7B6982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F817E4-7E9A-4393-826B-4DE97DFC2D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BABCF1-DA2F-4330-9649-BD19C3BC05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E94984-9143-4AE3-A1F4-41D37D8DED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2DDC79-12A5-4238-84D8-914FAC51DB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4836A8-62D0-40E8-9B1D-61E1258141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A5C872-C78C-4DB0-B7F7-CD4C4C3FD2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2F0D8E-0685-47E6-AACF-D39595DE28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C05E05-ABEC-4F77-8856-440EF24372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95C45-9754-4A36-85B1-F8C6DD56E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492BA8-AEE3-4900-B84D-5C32CA5219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4ED0A2-D25C-4F62-A333-0B42215BF5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0B2CBC-D550-4489-91B6-896B959833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F2C957-0B7F-4EC9-90C4-A1718F5AC0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15595E-2CB2-4D8F-8BA1-D1A24E570C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1E8E91-5EC9-4186-AAE0-9FD854EFA4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A30687-365D-4211-BAB6-664D7F21F1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4732E1-82AB-4370-B22E-327208A50A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8A56D6-2226-462C-A893-91B076A8E2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5CE3DE-2139-4982-9682-59C698DDCE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28700-90FC-4D38-9EB9-0EB7C6103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7EAD60-01DF-4AE9-ACFD-5B5B1CA8C9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CC0F10-4E14-4A55-A9EE-96AD6118E7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D5A7D6-5454-4F21-B24C-BCE1A3D70B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3C2721-F5D8-40B6-A3B7-A2D80B4E94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908778-0790-43B2-9245-7F401D1AAC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31AE6AE-96D9-4604-8A94-128055D31B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E02B61-21E1-4733-9AF3-BAE51CB9DB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725551-0065-43BC-B242-88B4F945E0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79BA70-D39C-4D38-A669-95A00D9056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41E475-DF3B-41E3-83B9-FD19E9C683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FD9ED-0983-4B93-86BB-A92E651BD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CCEC8F-C376-4119-8FF9-FAAFD2F960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6F0767-BDBB-4E94-81A2-90188C5B9D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1C6079-F03D-46C0-98B0-043C269B05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DC8CCB-CBB7-4B5F-A734-D082561551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6DD405-E469-4CC8-99CE-129CC6F640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83840F-9F89-461E-8916-2D868A39DF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BFB05B8-4500-40D8-BAA3-615234DAE18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 Ελεύθερη σχεδίαση"/>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 name="11 - Ελεύθερη σχεδίαση"/>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 name="13 - Ορθογώνιο τρίγωνο"/>
          <p:cNvGrpSpPr/>
          <p:nvPr/>
        </p:nvGrpSpPr>
        <p:grpSpPr>
          <a:xfrm>
            <a:off x="-6480" y="5791320"/>
            <a:ext cx="3402000" cy="1079280"/>
            <a:chOff x="-6480" y="5791320"/>
            <a:chExt cx="3402000" cy="1079280"/>
          </a:xfrm>
        </p:grpSpPr>
        <p:pic>
          <p:nvPicPr>
            <p:cNvPr id="3" name="13 - Ορθογώνιο τρίγωνο"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14 - Ευθεία γραμμή σύνδεσης"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7C609-E44D-475E-BE44-786C6F9B6F1B}"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9 - Ορθογώνιο τρίγωνο"/>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1 - Ομάδα"/>
          <p:cNvGrpSpPr/>
          <p:nvPr/>
        </p:nvGrpSpPr>
        <p:grpSpPr>
          <a:xfrm>
            <a:off x="-3240" y="4952880"/>
            <a:ext cx="9147240" cy="1911600"/>
            <a:chOff x="-3240" y="4952880"/>
            <a:chExt cx="9147240" cy="1911600"/>
          </a:xfrm>
        </p:grpSpPr>
        <p:sp>
          <p:nvSpPr>
            <p:cNvPr id="49" name="6 - Ελεύθερη σχεδίαση"/>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50" name="7 - Ελεύθερη σχεδίαση"/>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51" name="10 - Ελεύθερη σχεδίαση"/>
            <p:cNvGrpSpPr/>
            <p:nvPr/>
          </p:nvGrpSpPr>
          <p:grpSpPr>
            <a:xfrm>
              <a:off x="8640" y="4998600"/>
              <a:ext cx="9135360" cy="1865880"/>
              <a:chOff x="8640" y="4998600"/>
              <a:chExt cx="9135360" cy="1865880"/>
            </a:xfrm>
          </p:grpSpPr>
          <p:pic>
            <p:nvPicPr>
              <p:cNvPr id="52" name="10 - Ελεύθερη σχεδίαση" descr=""/>
              <p:cNvPicPr/>
              <p:nvPr/>
            </p:nvPicPr>
            <p:blipFill>
              <a:blip r:embed="rId2"/>
              <a:stretch/>
            </p:blipFill>
            <p:spPr>
              <a:xfrm>
                <a:off x="8640" y="4998600"/>
                <a:ext cx="9135360" cy="1865880"/>
              </a:xfrm>
              <a:prstGeom prst="rect">
                <a:avLst/>
              </a:prstGeom>
              <a:ln w="0">
                <a:noFill/>
              </a:ln>
            </p:spPr>
          </p:pic>
          <p:sp>
            <p:nvSpPr>
              <p:cNvPr id="53"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11 - Ευθεία γραμμή σύνδεσης"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1A443-D8C4-432B-B520-6B925831D57A}" type="slidenum">
              <a:rPr b="0" lang="el-GR"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 Ελεύθερη σχεδίαση"/>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97" name="11 - Ελεύθερη σχεδίαση"/>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98" name="13 - Ορθογώνιο τρίγωνο"/>
          <p:cNvGrpSpPr/>
          <p:nvPr/>
        </p:nvGrpSpPr>
        <p:grpSpPr>
          <a:xfrm>
            <a:off x="-6480" y="5791320"/>
            <a:ext cx="3402000" cy="1079280"/>
            <a:chOff x="-6480" y="5791320"/>
            <a:chExt cx="3402000" cy="1079280"/>
          </a:xfrm>
        </p:grpSpPr>
        <p:pic>
          <p:nvPicPr>
            <p:cNvPr id="99" name="13 - Ορθογώνιο τρίγωνο"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14 - Ευθεία γραμμή σύνδεσης" descr=""/>
          <p:cNvPicPr/>
          <p:nvPr/>
        </p:nvPicPr>
        <p:blipFill>
          <a:blip r:embed="rId4"/>
          <a:stretch/>
        </p:blipFill>
        <p:spPr>
          <a:xfrm>
            <a:off x="-19080" y="5778360"/>
            <a:ext cx="3414600" cy="1098720"/>
          </a:xfrm>
          <a:prstGeom prst="rect">
            <a:avLst/>
          </a:prstGeom>
          <a:ln w="0">
            <a:noFill/>
          </a:ln>
        </p:spPr>
      </p:pic>
      <p:sp>
        <p:nvSpPr>
          <p:cNvPr id="102" name="6 - Διάσημα"/>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7 - Διάσημα"/>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F82CF-8B78-47B6-AEA7-2CB381305353}"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 Ελεύθερη σχεδίαση"/>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46" name="11 - Ελεύθερη σχεδίαση"/>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147" name="13 - Ορθογώνιο τρίγωνο"/>
          <p:cNvGrpSpPr/>
          <p:nvPr/>
        </p:nvGrpSpPr>
        <p:grpSpPr>
          <a:xfrm>
            <a:off x="-6480" y="5791320"/>
            <a:ext cx="3402000" cy="1079280"/>
            <a:chOff x="-6480" y="5791320"/>
            <a:chExt cx="3402000" cy="1079280"/>
          </a:xfrm>
        </p:grpSpPr>
        <p:pic>
          <p:nvPicPr>
            <p:cNvPr id="148" name="13 - Ορθογώνιο τρίγωνο"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14 - Ευθεία γραμμή σύνδεσης"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62949-0C85-441A-B8F8-C7428C53AAF4}"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8511E-FFED-47D8-91BC-21E27B6AA6ED}"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 Ελεύθερη σχεδίαση"/>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234" name="11 - Ελεύθερη σχεδίαση"/>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35" name="13 - Ορθογώνιο τρίγωνο"/>
          <p:cNvGrpSpPr/>
          <p:nvPr/>
        </p:nvGrpSpPr>
        <p:grpSpPr>
          <a:xfrm>
            <a:off x="-6480" y="5791320"/>
            <a:ext cx="3402000" cy="1079280"/>
            <a:chOff x="-6480" y="5791320"/>
            <a:chExt cx="3402000" cy="1079280"/>
          </a:xfrm>
        </p:grpSpPr>
        <p:pic>
          <p:nvPicPr>
            <p:cNvPr id="236" name="13 - Ορθογώνιο τρίγωνο"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14 - Ευθεία γραμμή σύνδεσης"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287AD-AD6C-4F58-B587-74BC50C62196}"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DE5B9-040F-4E79-BDD5-C72FEB85B5E9}"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7 - Ελεύθερη σχεδίαση"/>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322" name="8 - Ελεύθερη σχεδίαση"/>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323" name="9 - Ορθογώνιο τρίγωνο"/>
          <p:cNvGrpSpPr/>
          <p:nvPr/>
        </p:nvGrpSpPr>
        <p:grpSpPr>
          <a:xfrm>
            <a:off x="-6480" y="5791320"/>
            <a:ext cx="3402000" cy="1079280"/>
            <a:chOff x="-6480" y="5791320"/>
            <a:chExt cx="3402000" cy="1079280"/>
          </a:xfrm>
        </p:grpSpPr>
        <p:pic>
          <p:nvPicPr>
            <p:cNvPr id="324" name="9 - Ορθογώνιο τρίγωνο"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10 - Ευθεία γραμμή σύνδεσης" descr=""/>
          <p:cNvPicPr/>
          <p:nvPr/>
        </p:nvPicPr>
        <p:blipFill>
          <a:blip r:embed="rId4"/>
          <a:stretch/>
        </p:blipFill>
        <p:spPr>
          <a:xfrm>
            <a:off x="-19080" y="5778360"/>
            <a:ext cx="3414600" cy="1098720"/>
          </a:xfrm>
          <a:prstGeom prst="rect">
            <a:avLst/>
          </a:prstGeom>
          <a:ln w="0">
            <a:noFill/>
          </a:ln>
        </p:spPr>
      </p:pic>
      <p:sp>
        <p:nvSpPr>
          <p:cNvPr id="327" name="11 - Διάσημα"/>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12 - Διάσημα"/>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A6396-40E0-458C-BCEA-7F36229A063D}" type="slidenum">
              <a:rPr b="0" lang="el-GR"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tavliinfo.gr/tavlienglish/tavliart/index.html" TargetMode="External"/><Relationship Id="rId2" Type="http://schemas.openxmlformats.org/officeDocument/2006/relationships/hyperlink" Target="http://www.tavliinfo.gr/tavlihistory/index.html" TargetMode="External"/><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1 - Τίτλος" descr=""/>
          <p:cNvPicPr/>
          <p:nvPr/>
        </p:nvPicPr>
        <p:blipFill>
          <a:blip r:embed="rId1"/>
          <a:stretch/>
        </p:blipFill>
        <p:spPr>
          <a:xfrm>
            <a:off x="712800" y="1139760"/>
            <a:ext cx="7986600" cy="221292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Comic Sans MS"/>
              </a:rPr>
              <a:t>Tavli</a:t>
            </a:r>
            <a:endParaRPr b="0" lang="en-US" sz="6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0" y="1071720"/>
            <a:ext cx="5286240" cy="5078160"/>
          </a:xfrm>
          <a:prstGeom prst="rect">
            <a:avLst/>
          </a:prstGeom>
          <a:noFill/>
          <a:ln w="0">
            <a:noFill/>
          </a:ln>
        </p:spPr>
        <p:txBody>
          <a:bodyPr lIns="90000" rIns="90000" tIns="46800" bIns="46800" anchor="t">
            <a:normAutofit fontScale="95000"/>
          </a:bodyPr>
          <a:p>
            <a:pPr marL="346680" indent="-24264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omic Sans MS"/>
              </a:rPr>
              <a:t>Το τάβλι έχει άμεση σχέση με την καθημερινότητα του Έλληνα. Μιας που είναι το πιο αγαπημένο παιγνίδι για πολλές γενιές Ελλήνων, φυσικό είναι να υπάρχουν συχνές αναφορές γι'αυτό στην λογοτεχνία, στην ποίηση, στον κινηματογράφο, στην τέχνη γενικότερα. Το τάβλι σαν ένα γνήσιο λαϊκό παιγνίδι είναι συνυφασμένο με τον λαϊκό ελληνικό πολιτισμό σε κάθε του εκδήλωση.</a:t>
            </a:r>
            <a:endParaRPr b="0" lang="en-US" sz="2700" spc="-1" strike="noStrike">
              <a:solidFill>
                <a:srgbClr val="000000"/>
              </a:solidFill>
              <a:latin typeface="Lucida Sans Unicode"/>
            </a:endParaRPr>
          </a:p>
        </p:txBody>
      </p:sp>
      <p:pic>
        <p:nvPicPr>
          <p:cNvPr id="399" name="2 - Τίτλος" descr=""/>
          <p:cNvPicPr/>
          <p:nvPr/>
        </p:nvPicPr>
        <p:blipFill>
          <a:blip r:embed="rId1"/>
          <a:stretch/>
        </p:blipFill>
        <p:spPr>
          <a:xfrm>
            <a:off x="244440" y="0"/>
            <a:ext cx="8485200" cy="1243080"/>
          </a:xfrm>
          <a:prstGeom prst="rect">
            <a:avLst/>
          </a:prstGeom>
          <a:ln w="0">
            <a:noFill/>
          </a:ln>
        </p:spPr>
      </p:pic>
      <p:pic>
        <p:nvPicPr>
          <p:cNvPr id="400" name="8 - Εικόνα" descr="folk-art-cafe-tavli.jpg"/>
          <p:cNvPicPr/>
          <p:nvPr/>
        </p:nvPicPr>
        <p:blipFill>
          <a:blip r:embed="rId2"/>
          <a:stretch/>
        </p:blipFill>
        <p:spPr>
          <a:xfrm>
            <a:off x="5500800" y="1357200"/>
            <a:ext cx="3317760" cy="469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8119"/>
                </a:solidFill>
                <a:uFillTx/>
                <a:latin typeface="Comic Sans MS"/>
                <a:hlinkClick r:id="rId1"/>
              </a:rPr>
              <a:t>http://www.tavliinfo.gr/tavlienglish/tavliart/index.html</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8119"/>
                </a:solidFill>
                <a:uFillTx/>
                <a:latin typeface="Comic Sans MS"/>
                <a:hlinkClick r:id="rId2"/>
              </a:rPr>
              <a:t>http://www.tavliinfo.gr/tavlihistory/index.html</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4100" spc="-1" strike="noStrike">
              <a:solidFill>
                <a:srgbClr val="464646"/>
              </a:solidFill>
              <a:latin typeface="Lucida Sans Unicode"/>
            </a:endParaRPr>
          </a:p>
        </p:txBody>
      </p:sp>
      <p:pic>
        <p:nvPicPr>
          <p:cNvPr id="403" name="Picture 2" descr="http://www.hellenic-art.com/images/backg2.jpg"/>
          <p:cNvPicPr/>
          <p:nvPr/>
        </p:nvPicPr>
        <p:blipFill>
          <a:blip r:embed="rId3"/>
          <a:stretch/>
        </p:blipFill>
        <p:spPr>
          <a:xfrm>
            <a:off x="2571840" y="3286080"/>
            <a:ext cx="3809880" cy="2552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2 - Τίτλος" descr=""/>
          <p:cNvPicPr/>
          <p:nvPr/>
        </p:nvPicPr>
        <p:blipFill>
          <a:blip r:embed="rId1"/>
          <a:stretch/>
        </p:blipFill>
        <p:spPr>
          <a:xfrm>
            <a:off x="542880" y="189000"/>
            <a:ext cx="8229600" cy="1243080"/>
          </a:xfrm>
          <a:prstGeom prst="rect">
            <a:avLst/>
          </a:prstGeom>
          <a:ln w="0">
            <a:noFill/>
          </a:ln>
        </p:spPr>
      </p:pic>
      <p:pic>
        <p:nvPicPr>
          <p:cNvPr id="405" name="3 - Εικόνα" descr="backgammon2.png"/>
          <p:cNvPicPr/>
          <p:nvPr/>
        </p:nvPicPr>
        <p:blipFill>
          <a:blip r:embed="rId2"/>
          <a:stretch/>
        </p:blipFill>
        <p:spPr>
          <a:xfrm>
            <a:off x="2124000" y="2205000"/>
            <a:ext cx="4635720" cy="324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2" descr="http://images.fineartamerica.com/images-medium-large/backgammon-board-michael-garyet.jpg"/>
          <p:cNvPicPr/>
          <p:nvPr/>
        </p:nvPicPr>
        <p:blipFill>
          <a:blip r:embed="rId1"/>
          <a:srcRect l="0" t="0" r="0" b="16667"/>
          <a:stretch/>
        </p:blipFill>
        <p:spPr>
          <a:xfrm>
            <a:off x="0" y="0"/>
            <a:ext cx="9144000" cy="6858000"/>
          </a:xfrm>
          <a:prstGeom prst="rect">
            <a:avLst/>
          </a:prstGeom>
          <a:ln w="0">
            <a:noFill/>
          </a:ln>
        </p:spPr>
      </p:pic>
      <p:pic>
        <p:nvPicPr>
          <p:cNvPr id="407" name="1 - Τίτλος" descr=""/>
          <p:cNvPicPr/>
          <p:nvPr/>
        </p:nvPicPr>
        <p:blipFill>
          <a:blip r:embed="rId2"/>
          <a:stretch/>
        </p:blipFill>
        <p:spPr>
          <a:xfrm>
            <a:off x="725400" y="639720"/>
            <a:ext cx="7772400" cy="3005280"/>
          </a:xfrm>
          <a:prstGeom prst="rect">
            <a:avLst/>
          </a:prstGeom>
          <a:ln w="0">
            <a:noFill/>
          </a:ln>
        </p:spPr>
      </p:pic>
      <p:sp>
        <p:nvSpPr>
          <p:cNvPr id="408" name="PlaceHolder 1"/>
          <p:cNvSpPr>
            <a:spLocks noGrp="1"/>
          </p:cNvSpPr>
          <p:nvPr>
            <p:ph/>
          </p:nvPr>
        </p:nvSpPr>
        <p:spPr>
          <a:xfrm>
            <a:off x="1071720" y="3357360"/>
            <a:ext cx="4572000" cy="1454040"/>
          </a:xfrm>
          <a:prstGeom prst="rect">
            <a:avLst/>
          </a:prstGeom>
          <a:noFill/>
          <a:ln w="0">
            <a:noFill/>
          </a:ln>
        </p:spPr>
        <p:txBody>
          <a:bodyPr tIns="46800" bIns="46800" anchor="t">
            <a:normAutofit fontScale="77000"/>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antha Balasi</a:t>
            </a:r>
            <a:endParaRPr b="0" lang="en-US" sz="2800" spc="-1" strike="noStrike">
              <a:solidFill>
                <a:srgbClr val="ffffff"/>
              </a:solidFill>
              <a:latin typeface="Lucida Sans Unicode"/>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da Dimo</a:t>
            </a:r>
            <a:br>
              <a:rPr sz="2800"/>
            </a:br>
            <a:r>
              <a:rPr b="1" lang="en-US" sz="2800" spc="-1" strike="noStrike">
                <a:solidFill>
                  <a:srgbClr val="000000"/>
                </a:solidFill>
                <a:latin typeface="Comic Sans MS"/>
              </a:rPr>
              <a:t>Konstantina Chini</a:t>
            </a:r>
            <a:br>
              <a:rPr sz="2800"/>
            </a:br>
            <a:r>
              <a:rPr b="1" lang="en-US" sz="2800" spc="-1" strike="noStrike">
                <a:solidFill>
                  <a:srgbClr val="000000"/>
                </a:solidFill>
                <a:latin typeface="Comic Sans MS"/>
              </a:rPr>
              <a:t>Eva Tsimitaki</a:t>
            </a:r>
            <a:endParaRPr b="0" lang="en-US" sz="2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28760" y="1642680"/>
            <a:ext cx="8229600" cy="507204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Tavli is one of the most ancient games of chance</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There are findings and reports all over the east Mediterranean about games that look more or less with the today’s Tavli. </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The most ancient backgammon has been found in the excavations of Ur, which is one of the most ancient cities in the world. </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All the people of Mesopotamia, as it seems, played Tavli. </a:t>
            </a:r>
            <a:endParaRPr b="0" lang="en-US" sz="2700" spc="-1" strike="noStrike">
              <a:solidFill>
                <a:srgbClr val="000000"/>
              </a:solidFill>
              <a:latin typeface="Lucida Sans Unicode"/>
            </a:endParaRPr>
          </a:p>
        </p:txBody>
      </p:sp>
      <p:pic>
        <p:nvPicPr>
          <p:cNvPr id="373" name="1 - Τίτλος" descr=""/>
          <p:cNvPicPr/>
          <p:nvPr/>
        </p:nvPicPr>
        <p:blipFill>
          <a:blip r:embed="rId1"/>
          <a:stretch/>
        </p:blipFill>
        <p:spPr>
          <a:xfrm>
            <a:off x="457200" y="225360"/>
            <a:ext cx="8229600" cy="1158840"/>
          </a:xfrm>
          <a:prstGeom prst="rect">
            <a:avLst/>
          </a:prstGeom>
          <a:ln w="0">
            <a:noFill/>
          </a:ln>
        </p:spPr>
      </p:pic>
      <p:pic>
        <p:nvPicPr>
          <p:cNvPr id="374" name="Picture 2" descr="http://www.tavliinfo.gr/tavlihistory/ancientgreece/1.jpg"/>
          <p:cNvPicPr/>
          <p:nvPr/>
        </p:nvPicPr>
        <p:blipFill>
          <a:blip r:embed="rId2"/>
          <a:stretch/>
        </p:blipFill>
        <p:spPr>
          <a:xfrm>
            <a:off x="7358040" y="0"/>
            <a:ext cx="1785960" cy="171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omic Sans MS"/>
              </a:rPr>
              <a:t>Το τάβλι είναι ένα από τα αρχαιότερα παιχνίδια τύχης</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omic Sans MS"/>
              </a:rPr>
              <a:t>Υπάρχουν ανακαλύψεις και αναφορές από όλη την ανατολική Μεσόγειο για παιχνίδια παρόμοια με το τάβλι</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omic Sans MS"/>
              </a:rPr>
              <a:t>Το αρχαιότερο τάβλι έχει βρεθεί στις ανασκαφές της Ουρ, η οποία είναι μία από τις αρχαιότερες πόλεις του κόσμου.</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omic Sans MS"/>
              </a:rPr>
              <a:t>Όλοι οι κάτοικοι της Μεσοποταμίας όπως φαίνεται έπαιζαν τάβλι.</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6" name="2 - Τίτλος"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571680" y="357120"/>
            <a:ext cx="8229600" cy="45259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Tavli is the most spread game in Greece. Favorite game for generations and generations in Greece, tavli is played in a wooden frame with 30 counters in two different colors (15 counters of each color).</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The word tavli is used for the game but also for the frame that game is played. The players move the counters in specific places inside tavli, which is split in two parts, according to the dice</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p:txBody>
      </p:sp>
      <p:pic>
        <p:nvPicPr>
          <p:cNvPr id="378" name="Picture 2" descr="https://upload.wikimedia.org/wikipedia/commons/thumb/6/66/Wurfzabel.jpg/220px-Wurfzabel.jpg"/>
          <p:cNvPicPr/>
          <p:nvPr/>
        </p:nvPicPr>
        <p:blipFill>
          <a:blip r:embed="rId1"/>
          <a:stretch/>
        </p:blipFill>
        <p:spPr>
          <a:xfrm>
            <a:off x="4143240" y="4371840"/>
            <a:ext cx="4143600" cy="248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 descr=""/>
          <p:cNvPicPr/>
          <p:nvPr/>
        </p:nvPicPr>
        <p:blipFill>
          <a:blip r:embed="rId1"/>
          <a:stretch/>
        </p:blipFill>
        <p:spPr>
          <a:xfrm>
            <a:off x="457200" y="1481040"/>
            <a:ext cx="8229600" cy="4525920"/>
          </a:xfrm>
          <a:prstGeom prst="rect">
            <a:avLst/>
          </a:prstGeom>
          <a:ln w="0">
            <a:noFill/>
          </a:ln>
        </p:spPr>
      </p:pic>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4100" spc="-1" strike="noStrike">
              <a:solidFill>
                <a:srgbClr val="464646"/>
              </a:solidFill>
              <a:latin typeface="Lucida Sans Unicode"/>
            </a:endParaRPr>
          </a:p>
        </p:txBody>
      </p:sp>
      <p:pic>
        <p:nvPicPr>
          <p:cNvPr id="381" name="Picture 2" descr="https://upload.wikimedia.org/wikipedia/commons/thumb/6/66/Wurfzabel.jpg/220px-Wurfzabel.jpg"/>
          <p:cNvPicPr/>
          <p:nvPr/>
        </p:nvPicPr>
        <p:blipFill>
          <a:blip r:embed="rId2"/>
          <a:stretch/>
        </p:blipFill>
        <p:spPr>
          <a:xfrm>
            <a:off x="263520" y="549360"/>
            <a:ext cx="8880480" cy="532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142640"/>
            <a:ext cx="8229600" cy="4863960"/>
          </a:xfrm>
          <a:prstGeom prst="rect">
            <a:avLst/>
          </a:prstGeom>
          <a:noFill/>
          <a:ln w="0">
            <a:noFill/>
          </a:ln>
        </p:spPr>
        <p:txBody>
          <a:bodyPr lIns="90000" rIns="90000" tIns="46800" bIns="46800" anchor="t">
            <a:normAutofit fontScale="97000"/>
          </a:bodyPr>
          <a:p>
            <a:pPr marL="353880" indent="-24768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omic Sans MS"/>
              </a:rPr>
              <a:t>Το τάβλι είναι το πιο διαδεδομένο παιχνίδι στην Ελλάδα. Αγαπημένο παιγνίδι για γενιές και γενιές Ελλήνων το τάβλι παίζεται σε ένα ξύλινο πλαίσιο με 30 πούλια σε δύο διαφορετικά χρώματα (15 πούλια το κάθε χρώμα).</a:t>
            </a:r>
            <a:endParaRPr b="0" lang="en-US" sz="2700" spc="-1" strike="noStrike">
              <a:solidFill>
                <a:srgbClr val="000000"/>
              </a:solidFill>
              <a:latin typeface="Lucida Sans Unicode"/>
            </a:endParaRPr>
          </a:p>
          <a:p>
            <a:pPr marL="353880" indent="-24768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omic Sans MS"/>
              </a:rPr>
              <a:t>Η λέξη τάβλι χρησιμοποιείται και για το παιχνίδι, αλλά και για το πλαίσιο που παίζεται το τάβλι. Οι παίκτες μετακινούν τα πούλια σε σταθερές θέσεις μέσα στο τάβλι που είναι χωρισμένο στα δύο, ανάλογα με τη ζαριά που θα φέρουν, ρίχνοντας δύο ζάρια μαζί. </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The purpose is, in every variation of the game, the player to manage to move all his counters in specific places and then to gather them out of the game. If he manages this before his opponent manages to gather at least one of his counters, the winning is double (double game). If the opponent manages to gather even one counter, then the winner takes only one point. The game usually finishes in 7 winning point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The variations of the game tavli that are played in Greece are “plakoto”, “portes” (doors), “feyga” (go or moultetzim, which is the Turkish name)</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4" name="2 - Τίτλος" descr=""/>
          <p:cNvPicPr/>
          <p:nvPr/>
        </p:nvPicPr>
        <p:blipFill>
          <a:blip r:embed="rId1"/>
          <a:stretch/>
        </p:blipFill>
        <p:spPr>
          <a:xfrm>
            <a:off x="201600" y="274680"/>
            <a:ext cx="8485200" cy="1243080"/>
          </a:xfrm>
          <a:prstGeom prst="rect">
            <a:avLst/>
          </a:prstGeom>
          <a:ln w="0">
            <a:noFill/>
          </a:ln>
        </p:spPr>
      </p:pic>
      <p:pic>
        <p:nvPicPr>
          <p:cNvPr id="385" name="Picture 2" descr="http://www.tavliinfo.gr/tavlihistory/7.jpg"/>
          <p:cNvPicPr/>
          <p:nvPr/>
        </p:nvPicPr>
        <p:blipFill>
          <a:blip r:embed="rId2"/>
          <a:stretch/>
        </p:blipFill>
        <p:spPr>
          <a:xfrm>
            <a:off x="7000920" y="357120"/>
            <a:ext cx="1428840" cy="1085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642960" y="1643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Comic Sans MS"/>
              </a:rPr>
              <a:t>Ο σκοπός σε όσες παραλλαγές παιγνιδιών κι αν παίζεται το τάβλι, είναι να μπορέσει ο παίκτης να μεταφέρει όλα τα πούλια του σε καθορισμένεις θέσεις και από εκεί να τα μαζέψει έξω από το παιγνίδι. Αν τα καταφέρει πριν ο αντίπαλος μπορέσει να μαζέψει έστω και ένα πούλι, η νίκη μετράει διπλή (διπλό παιχνίδι). Αν ο αντίπαλος έχει καταφέρει να πάρει έστω και ένα, τότε ο νικητής παίρνει ένα βαθμό. Η παρτίδα στο τάβλι συνήθως λήγει στα επτά νικητήρια παιχνίδια ή σε μονό αριθμό νικητήριων παιχνιδιών ώστε να μπορέσει να αναδειχθεί ποιός είναι ο νικητής στο τάβλι.</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Comic Sans MS"/>
              </a:rPr>
              <a:t>Οι παραλλαγές παιχνιδιών στο τάβλι που παίζεται στην Ελλάδα είναι το πλακωτό, οι πόρτες, το φεύγα (ή μουλτεζίμ, που είναι η τούρκικη ονομασία του)</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87" name="2 - Τίτλος" descr=""/>
          <p:cNvPicPr/>
          <p:nvPr/>
        </p:nvPicPr>
        <p:blipFill>
          <a:blip r:embed="rId1"/>
          <a:stretch/>
        </p:blipFill>
        <p:spPr>
          <a:xfrm>
            <a:off x="201600" y="274680"/>
            <a:ext cx="8485200" cy="1243080"/>
          </a:xfrm>
          <a:prstGeom prst="rect">
            <a:avLst/>
          </a:prstGeom>
          <a:ln w="0">
            <a:noFill/>
          </a:ln>
        </p:spPr>
      </p:pic>
      <p:pic>
        <p:nvPicPr>
          <p:cNvPr id="388" name="Picture 2" descr="https://fainareti.files.wordpress.com/2014/10/373.jpg?w=300&amp;h=282"/>
          <p:cNvPicPr/>
          <p:nvPr/>
        </p:nvPicPr>
        <p:blipFill>
          <a:blip r:embed="rId2"/>
          <a:stretch/>
        </p:blipFill>
        <p:spPr>
          <a:xfrm>
            <a:off x="7218360" y="139680"/>
            <a:ext cx="1511280" cy="1427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28760" y="1213920"/>
            <a:ext cx="8229600" cy="452628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Tavli is connected with the daily life of Greek people. Because it is the most favorite game for many generations of Greeks, it is normal to see frequent mentions about tavli in literature, in poetry, in cinema, in art generally. As a pure game of the every day Greek person, it is interwoven with the Greek folklore civilization.</a:t>
            </a:r>
            <a:endParaRPr b="0" lang="en-US" sz="2700" spc="-1" strike="noStrike">
              <a:solidFill>
                <a:srgbClr val="000000"/>
              </a:solidFill>
              <a:latin typeface="Lucida Sans Unicode"/>
            </a:endParaRPr>
          </a:p>
        </p:txBody>
      </p:sp>
      <p:pic>
        <p:nvPicPr>
          <p:cNvPr id="390" name="2 - Τίτλος" descr=""/>
          <p:cNvPicPr/>
          <p:nvPr/>
        </p:nvPicPr>
        <p:blipFill>
          <a:blip r:embed="rId1"/>
          <a:stretch/>
        </p:blipFill>
        <p:spPr>
          <a:xfrm>
            <a:off x="201600" y="274680"/>
            <a:ext cx="8485200" cy="1243080"/>
          </a:xfrm>
          <a:prstGeom prst="rect">
            <a:avLst/>
          </a:prstGeom>
          <a:ln w="0">
            <a:noFill/>
          </a:ln>
        </p:spPr>
      </p:pic>
      <p:sp>
        <p:nvSpPr>
          <p:cNvPr id="391"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9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9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9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95"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pic>
        <p:nvPicPr>
          <p:cNvPr id="396" name="9 - Εικόνα" descr="6475485i7tykfgdbs465746itukghmfdfs46547869p09.jpg"/>
          <p:cNvPicPr/>
          <p:nvPr/>
        </p:nvPicPr>
        <p:blipFill>
          <a:blip r:embed="rId2"/>
          <a:stretch/>
        </p:blipFill>
        <p:spPr>
          <a:xfrm>
            <a:off x="4286160" y="4211640"/>
            <a:ext cx="3882960" cy="2384280"/>
          </a:xfrm>
          <a:prstGeom prst="rect">
            <a:avLst/>
          </a:prstGeom>
          <a:ln w="0">
            <a:noFill/>
          </a:ln>
        </p:spPr>
      </p:pic>
      <p:pic>
        <p:nvPicPr>
          <p:cNvPr id="397" name="Picture 12" descr="http://www.tavliinfo.gr/tavlihistory/achileasaias/1.jpg"/>
          <p:cNvPicPr/>
          <p:nvPr/>
        </p:nvPicPr>
        <p:blipFill>
          <a:blip r:embed="rId3"/>
          <a:stretch/>
        </p:blipFill>
        <p:spPr>
          <a:xfrm>
            <a:off x="0" y="4714920"/>
            <a:ext cx="3809880" cy="214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20T18:00:11Z</dcterms:created>
  <dc:creator>a</dc:creator>
  <dc:description/>
  <dc:language>en-US</dc:language>
  <cp:lastModifiedBy>USER5</cp:lastModifiedBy>
  <dcterms:modified xsi:type="dcterms:W3CDTF">2016-09-28T07:19:58Z</dcterms:modified>
  <cp:revision>27</cp:revision>
  <dc:subject/>
  <dc:title>The most popular game in Greece</dc:title>
</cp:coreProperties>
</file>