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A1DF-0A7E-4222-9698-A2DD4DF93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9074160" cy="2476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475520"/>
            <a:ext cx="9074160" cy="2476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EBC3-B172-44D0-9D48-4492E6249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476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476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475520"/>
            <a:ext cx="4428000" cy="2476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3040" y="4475520"/>
            <a:ext cx="4428000" cy="2476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69F3-4F77-4E90-B1D3-7B9B486DC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2921760" cy="2476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1760" cy="2476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760" cy="2476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475520"/>
            <a:ext cx="2921760" cy="2476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1560" y="4475520"/>
            <a:ext cx="2921760" cy="2476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9840" y="4475520"/>
            <a:ext cx="2921760" cy="2476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AAB9-2205-46CD-ACA7-2C8426BDC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9729C-C383-46E9-9ECA-BBD73D0AF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3640"/>
            <a:ext cx="9074160" cy="519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5084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A5BCA-1406-49FF-BF52-965B0896B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9074160" cy="519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373B8-A7D2-4FB5-9160-5ADF1DB9B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519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519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FDDE2-FD02-4D85-B1F2-9DCBC6BDB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A538C-1397-4D8A-9E41-D9F0920BF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2760"/>
            <a:ext cx="90741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50840"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FFF7C-635A-4A77-A1B8-0D6A6A009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476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519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475520"/>
            <a:ext cx="4428000" cy="2476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95A8F-D5DB-4FBA-8629-2755DAD6D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3640"/>
            <a:ext cx="9074160" cy="519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5084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70C2-062E-4363-880F-B3D75D544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519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476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53040" y="4475520"/>
            <a:ext cx="4428000" cy="2476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A8C32-19DD-407D-903C-9339D1524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476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476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475520"/>
            <a:ext cx="9074160" cy="2476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A1D5D-690F-452D-B42A-9C9E0FF52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9074160" cy="2476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475520"/>
            <a:ext cx="9074160" cy="2476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B9858-AFAB-4E2D-B509-6FBCAF772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476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476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475520"/>
            <a:ext cx="4428000" cy="2476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53040" y="4475520"/>
            <a:ext cx="4428000" cy="2476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74609-4F98-42AD-A7F4-B4F45C595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2921760" cy="2476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1760" cy="2476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760" cy="2476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475520"/>
            <a:ext cx="2921760" cy="2476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71560" y="4475520"/>
            <a:ext cx="2921760" cy="2476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9840" y="4475520"/>
            <a:ext cx="2921760" cy="2476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24381-0D22-46C0-AF51-575616E8B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9074160" cy="519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CB53-3979-4CA6-B7A6-6F45C19CE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519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519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F1E4-BFB6-409D-A8FB-A34718D63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A03E-187E-428E-99A8-FA0951A53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2760"/>
            <a:ext cx="90741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50840"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034A-22DB-49B5-A46E-0F2007306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476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519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475520"/>
            <a:ext cx="4428000" cy="2476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468C-4ED6-4EDE-891D-98A0AEC69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519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476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3040" y="4475520"/>
            <a:ext cx="4428000" cy="2476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6F24-69B4-4C2E-8C5F-79AFA9056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476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476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475520"/>
            <a:ext cx="9074160" cy="2476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69ED-51AE-458B-8A09-53979FD79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3640"/>
            <a:ext cx="9074160" cy="519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603360" indent="-452520">
              <a:spcBef>
                <a:spcPts val="774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lvl="1" marL="957240" indent="-311040">
              <a:spcBef>
                <a:spcPts val="774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lvl="2" marL="1249200" indent="-250560">
              <a:spcBef>
                <a:spcPts val="774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lvl="3" marL="1490760" indent="-200160">
              <a:spcBef>
                <a:spcPts val="774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lvl="4" marL="1703520" indent="-200160">
              <a:spcBef>
                <a:spcPts val="774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lvl="5" marL="1703520" indent="-200160">
              <a:spcBef>
                <a:spcPts val="774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lvl="6" marL="1703520" indent="-200160">
              <a:spcBef>
                <a:spcPts val="774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70736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4840" y="7073640"/>
            <a:ext cx="319104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5760" y="7073640"/>
            <a:ext cx="84132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504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3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FB4E8-64D1-43C0-9841-61B6080EC0C8}" type="slidenum">
              <a:rPr b="0" lang="el-GR" sz="13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3640"/>
            <a:ext cx="9074160" cy="5191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603360" indent="-452520">
              <a:spcBef>
                <a:spcPts val="774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lvl="1" marL="957240" indent="-311040">
              <a:spcBef>
                <a:spcPts val="774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lvl="2" marL="1249200" indent="-250560">
              <a:spcBef>
                <a:spcPts val="774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lvl="3" marL="1490760" indent="-200160">
              <a:spcBef>
                <a:spcPts val="774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lvl="4" marL="1703520" indent="-200160">
              <a:spcBef>
                <a:spcPts val="774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lvl="5" marL="1703520" indent="-200160">
              <a:spcBef>
                <a:spcPts val="774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lvl="6" marL="1703520" indent="-200160">
              <a:spcBef>
                <a:spcPts val="774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70736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4840" y="7073640"/>
            <a:ext cx="319104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735760" y="7073640"/>
            <a:ext cx="84132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504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3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8CF08-A0FD-4F57-AE76-1165F8490B6A}" type="slidenum">
              <a:rPr b="0" lang="el-GR" sz="13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Τίτλος 1" descr=""/>
          <p:cNvPicPr/>
          <p:nvPr/>
        </p:nvPicPr>
        <p:blipFill>
          <a:blip r:embed="rId1"/>
          <a:stretch/>
        </p:blipFill>
        <p:spPr>
          <a:xfrm>
            <a:off x="0" y="2225520"/>
            <a:ext cx="9070920" cy="166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Τίτλος 1" descr=""/>
          <p:cNvPicPr/>
          <p:nvPr/>
        </p:nvPicPr>
        <p:blipFill>
          <a:blip r:embed="rId1"/>
          <a:stretch/>
        </p:blipFill>
        <p:spPr>
          <a:xfrm>
            <a:off x="-171360" y="109440"/>
            <a:ext cx="9504360" cy="18954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0" y="1768320"/>
            <a:ext cx="9072720" cy="438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6000"/>
          </a:bodyPr>
          <a:p>
            <a:pPr marL="414360" indent="-310680">
              <a:lnSpc>
                <a:spcPct val="100000"/>
              </a:lnSpc>
              <a:spcAft>
                <a:spcPts val="1412"/>
              </a:spcAft>
              <a:buClr>
                <a:srgbClr val="f9f9f9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00"/>
                </a:solidFill>
                <a:latin typeface="Arial"/>
                <a:ea typeface="Microsoft YaHei"/>
              </a:rPr>
              <a:t>There is one player who chases all the other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14360" indent="-310680">
              <a:lnSpc>
                <a:spcPct val="100000"/>
              </a:lnSpc>
              <a:spcAft>
                <a:spcPts val="1412"/>
              </a:spcAft>
              <a:buClr>
                <a:srgbClr val="f9f9f9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00"/>
                </a:solidFill>
                <a:latin typeface="Arial"/>
                <a:ea typeface="Microsoft YaHei"/>
              </a:rPr>
              <a:t>You can call the name of a fruit at any time and then you become untaggable and must remain stil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14360" indent="-310680">
              <a:lnSpc>
                <a:spcPct val="100000"/>
              </a:lnSpc>
              <a:spcAft>
                <a:spcPts val="1412"/>
              </a:spcAft>
              <a:buClr>
                <a:srgbClr val="f9f9f9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00"/>
                </a:solidFill>
                <a:latin typeface="Arial"/>
                <a:ea typeface="Microsoft YaHei"/>
              </a:rPr>
              <a:t>*You can’t say the fruit someone else sai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14360" indent="-310680">
              <a:lnSpc>
                <a:spcPct val="100000"/>
              </a:lnSpc>
              <a:spcAft>
                <a:spcPts val="1412"/>
              </a:spcAft>
              <a:buClr>
                <a:srgbClr val="f9f9f9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00"/>
                </a:solidFill>
                <a:latin typeface="Arial"/>
                <a:ea typeface="Microsoft YaHei"/>
              </a:rPr>
              <a:t>Nevertheless, another player can “unlock” you by hitting you and shouting “xele” and then use the fruit they ha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Τίτλος 1" descr=""/>
          <p:cNvPicPr/>
          <p:nvPr/>
        </p:nvPicPr>
        <p:blipFill>
          <a:blip r:embed="rId1"/>
          <a:stretch/>
        </p:blipFill>
        <p:spPr>
          <a:xfrm>
            <a:off x="0" y="109440"/>
            <a:ext cx="9101160" cy="18954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0" y="1768320"/>
            <a:ext cx="9072720" cy="438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431640" indent="-323640">
              <a:lnSpc>
                <a:spcPct val="100000"/>
              </a:lnSpc>
              <a:spcAft>
                <a:spcPts val="1412"/>
              </a:spcAft>
              <a:buClr>
                <a:srgbClr val="f9f9f9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00"/>
                </a:solidFill>
                <a:latin typeface="Arial"/>
                <a:ea typeface="Microsoft YaHei"/>
              </a:rPr>
              <a:t>The last player still running must find a fruit not mentioned*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-323640">
              <a:lnSpc>
                <a:spcPct val="100000"/>
              </a:lnSpc>
              <a:spcAft>
                <a:spcPts val="1412"/>
              </a:spcAft>
              <a:buClr>
                <a:srgbClr val="f9f9f9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00"/>
                </a:solidFill>
                <a:latin typeface="Arial"/>
                <a:ea typeface="Microsoft YaHei"/>
              </a:rPr>
              <a:t>If he can’t find any then they have to avoid getting caught until everybody agrees that the game is ov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Τίτλος 1" descr=""/>
          <p:cNvPicPr/>
          <p:nvPr/>
        </p:nvPicPr>
        <p:blipFill>
          <a:blip r:embed="rId1"/>
          <a:stretch/>
        </p:blipFill>
        <p:spPr>
          <a:xfrm>
            <a:off x="0" y="298440"/>
            <a:ext cx="9070920" cy="146988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768320"/>
            <a:ext cx="9072720" cy="438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431640" indent="-323640">
              <a:lnSpc>
                <a:spcPct val="100000"/>
              </a:lnSpc>
              <a:spcAft>
                <a:spcPts val="1412"/>
              </a:spcAft>
              <a:buClr>
                <a:srgbClr val="f9f9f9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00"/>
                </a:solidFill>
                <a:latin typeface="Arial"/>
                <a:ea typeface="Microsoft YaHei"/>
              </a:rPr>
              <a:t>Chryssa Megalokonomo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-323640">
              <a:lnSpc>
                <a:spcPct val="100000"/>
              </a:lnSpc>
              <a:spcAft>
                <a:spcPts val="1412"/>
              </a:spcAft>
              <a:buClr>
                <a:srgbClr val="f9f9f9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00"/>
                </a:solidFill>
                <a:latin typeface="Arial"/>
                <a:ea typeface="Microsoft YaHei"/>
              </a:rPr>
              <a:t>Leonidas Moser-Kalomir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-323640">
              <a:lnSpc>
                <a:spcPct val="100000"/>
              </a:lnSpc>
              <a:spcAft>
                <a:spcPts val="1412"/>
              </a:spcAft>
              <a:buClr>
                <a:srgbClr val="f9f9f9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00"/>
                </a:solidFill>
                <a:latin typeface="Arial"/>
                <a:ea typeface="Microsoft YaHei"/>
              </a:rPr>
              <a:t>Apollonas Belegrin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-323640">
              <a:lnSpc>
                <a:spcPct val="100000"/>
              </a:lnSpc>
              <a:spcAft>
                <a:spcPts val="1412"/>
              </a:spcAft>
              <a:buClr>
                <a:srgbClr val="f9f9f9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00"/>
                </a:solidFill>
                <a:latin typeface="Arial"/>
                <a:ea typeface="Microsoft YaHei"/>
              </a:rPr>
              <a:t>Katerina Bisbik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-323640">
              <a:lnSpc>
                <a:spcPct val="100000"/>
              </a:lnSpc>
              <a:spcAft>
                <a:spcPts val="1412"/>
              </a:spcAft>
              <a:buClr>
                <a:srgbClr val="f9f9f9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00"/>
                </a:solidFill>
                <a:latin typeface="Arial"/>
                <a:ea typeface="Microsoft YaHei"/>
              </a:rPr>
              <a:t>Errikos Papadopoul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01T22:31:42Z</dcterms:created>
  <dc:creator>USER5</dc:creator>
  <dc:description/>
  <dc:language>en-US</dc:language>
  <cp:lastModifiedBy>USER5</cp:lastModifiedBy>
  <dcterms:modified xsi:type="dcterms:W3CDTF">2016-09-28T07:22:34Z</dcterms:modified>
  <cp:revision>5</cp:revision>
  <dc:subject/>
  <dc:title>Banana-xebanana</dc:title>
</cp:coreProperties>
</file>