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780-31EE-4932-9D61-85AA6FFB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A9D-6D28-41BD-9522-26A650BE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876-D02D-4FC4-A361-4EA7733B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1D1-3E45-4FFF-AE3D-83D348C4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67D4-103B-4488-970C-118F446D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7D6A-C981-47E3-A872-7EB04B18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7485-870C-47DA-96ED-BD63EBBD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63C1-4B81-4DB5-A584-CAECC11A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EB6A-2AC1-49F9-846E-BF19932E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2E7-DC56-4520-A498-A9ABF29E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9063-C613-4DAD-A63C-888EF336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2A4-4B92-4998-971D-D9703016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B0C3-122A-4868-BEED-A509AF4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C9FB-8D5C-4123-8EE8-F2D9704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453-0760-4F91-B560-2F111CCD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9922-9C48-463B-BA6C-24CE89A2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B38-B23B-4FCB-8320-77CCCAD6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BD1-3298-40A7-9942-5C3731A1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A44-66C9-4767-BCA0-6A9248DD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FC9-81D8-4037-8110-5C43BB2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8B6-F428-47A4-8260-76D00926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8EF-D90F-49FC-8255-67BD26B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27E-1949-4542-BF51-2EBE283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F7C-BD7F-479A-842C-D1346DF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3360" indent="-452520">
              <a:spcBef>
                <a:spcPts val="7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7240" indent="-311040">
              <a:spcBef>
                <a:spcPts val="774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9200" indent="-250560">
              <a:spcBef>
                <a:spcPts val="774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490760" indent="-200160">
              <a:spcBef>
                <a:spcPts val="774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736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5760" y="70736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3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104-0374-400A-9BD8-3B05A4D3D4D0}" type="slidenum">
              <a:rPr b="0" lang="el-GR" sz="13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3360" indent="-452520">
              <a:spcBef>
                <a:spcPts val="7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7240" indent="-311040">
              <a:spcBef>
                <a:spcPts val="774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9200" indent="-250560">
              <a:spcBef>
                <a:spcPts val="774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490760" indent="-200160">
              <a:spcBef>
                <a:spcPts val="774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736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5760" y="70736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3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5BE-2D04-40C4-AF47-11CACC6634D5}" type="slidenum">
              <a:rPr b="0" lang="el-GR" sz="13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Τίτλος 1" descr=""/>
          <p:cNvPicPr/>
          <p:nvPr/>
        </p:nvPicPr>
        <p:blipFill>
          <a:blip r:embed="rId1"/>
          <a:stretch/>
        </p:blipFill>
        <p:spPr>
          <a:xfrm>
            <a:off x="0" y="2225520"/>
            <a:ext cx="9070920" cy="16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Τίτλος 1" descr=""/>
          <p:cNvPicPr/>
          <p:nvPr/>
        </p:nvPicPr>
        <p:blipFill>
          <a:blip r:embed="rId1"/>
          <a:stretch/>
        </p:blipFill>
        <p:spPr>
          <a:xfrm>
            <a:off x="-171360" y="109440"/>
            <a:ext cx="9504360" cy="189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768320"/>
            <a:ext cx="90727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There is one player who chases all the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You can call the name of a fruit at any time and then you become untaggable and must remain st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*You can’t say the fruit someone else sa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Nevertheless, another player can “unlock” you by hitting you and shouting “xele” and then use the fruit they h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Τίτλος 1" descr=""/>
          <p:cNvPicPr/>
          <p:nvPr/>
        </p:nvPicPr>
        <p:blipFill>
          <a:blip r:embed="rId1"/>
          <a:stretch/>
        </p:blipFill>
        <p:spPr>
          <a:xfrm>
            <a:off x="0" y="109440"/>
            <a:ext cx="9101160" cy="1895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768320"/>
            <a:ext cx="90727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The last player still running must find a fruit not mentioned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If he can’t find any then they have to avoid getting caught until everybody agrees that the game is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Τίτλος 1" descr=""/>
          <p:cNvPicPr/>
          <p:nvPr/>
        </p:nvPicPr>
        <p:blipFill>
          <a:blip r:embed="rId1"/>
          <a:stretch/>
        </p:blipFill>
        <p:spPr>
          <a:xfrm>
            <a:off x="0" y="298440"/>
            <a:ext cx="9070920" cy="146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68320"/>
            <a:ext cx="90727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Chryssa Megalokonom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Leonidas Moser-Kalomi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Apollonas Belegr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Katerina Bisbi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Errikos Papadopou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1T22:31:42Z</dcterms:created>
  <dc:creator>USER5</dc:creator>
  <dc:description/>
  <dc:language>en-US</dc:language>
  <cp:lastModifiedBy>USER5</cp:lastModifiedBy>
  <dcterms:modified xsi:type="dcterms:W3CDTF">2016-09-28T07:22:34Z</dcterms:modified>
  <cp:revision>5</cp:revision>
  <dc:subject/>
  <dc:title>Banana-xebanana</dc:title>
</cp:coreProperties>
</file>